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2921-9226-472F-92B8-0B055544E3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D04D-DEC7-45B4-AD88-81C6FEF49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66F-9833-48FD-87A3-8880E4A3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F2D-46C8-41C1-BA1E-7C003E3A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6746-91E2-480D-AB3D-B7DD434C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3B5-9C51-4F34-9981-39AD5320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F4CB-4DCC-4166-AAAC-AF1A9859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D6D0-7ED9-47E9-8403-C3615634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A206-5CD7-4D8B-B029-7A8EE325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0958-9F0C-4668-B5C9-619ABB52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3FFE-717F-4A54-9059-6763380B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948F-48AE-4316-8D02-0C198554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F31B-99A0-4A9C-93BB-D0FF72C4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AFF-A094-488A-AAF4-57F7627C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9B9C-FD2A-4131-B952-E71827C0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1ED1-DB6A-4018-852D-F680B272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7185-E7FA-4E74-AB02-92D17874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E224-9DE9-4A2E-A461-6AFF9A1B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BAAE-F1E4-48FA-BE00-FA3AE0FD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C2046-E37A-41F1-AD4E-222998BC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15EA6-7AAC-4B1A-9664-46521723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7F86B-E42E-425D-A78C-020D4D3F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1515-24E3-42BC-8D8C-7F21B601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B0DA-FC6F-4E23-AD10-53398ACA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F4E-337B-4062-8DCE-E910F462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169CD-1EA7-4C6A-9B29-A2F7F98A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13BD1-F67B-4524-9F7E-5AFC2D9C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EA1FB-27AA-4B7A-8FED-76907199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4428-5E30-4207-B99A-82797F3B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9A808-0B19-4C3A-AC68-50B98D2D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D998E-40B1-44EB-B6A8-140ED3C3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ECA50-7089-48D3-BB03-C8F4C0E2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796DE-CBA4-490D-B870-FDD69553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B111B-16CC-43DC-B829-A5584451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2AE82-9D77-4047-806F-DB8FFF90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BE8-776C-4EC8-A0AC-1165B5E9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F2C88-5407-4D2A-B17B-D4707F09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5158C-8714-40CA-99E7-66A3D761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29611-F703-43A1-B69F-2C2E8488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05203-7F4D-48D0-A9EF-FCE672AE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B3557-2ACA-4ED4-B375-0EB0F027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5415C-FB5B-4809-8E28-91DEE125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635A2-B5D8-4203-A3F0-078C55E9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71ADF-DD37-4638-897F-2F8C10C3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58C82-4298-446B-B4F3-43850765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F2F6-6AA6-41D5-968F-3B9AE6DF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A44-B885-4D9F-9BE3-28194AD2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561-611B-4571-9EE2-01DC0A1A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8B3-78AD-42EB-83CC-3EA4ECC8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5DFD-8FC8-48FE-BA68-BCC5A936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DE4B-0679-4FEB-9E6D-0BE8FCDA76A6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D230-A7D7-4C4C-A819-C729A2837DB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cc33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33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CBA4-5A06-47C3-B377-6C16F77E7E16}" type="slidenum">
              <a:rPr b="0" lang="ru-RU" sz="1200" spc="-1" strike="noStrike">
                <a:solidFill>
                  <a:srgbClr val="cc33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8685-C923-46C2-AE96-B6BA6064A97E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442A-CEE1-4541-AADA-8EABBA01A2F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cc33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33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8B03-C8E7-4CCA-BFC2-C8B7FE4F9CFA}" type="slidenum">
              <a:rPr b="0" lang="ru-RU" sz="1200" spc="-1" strike="noStrike">
                <a:solidFill>
                  <a:srgbClr val="cc33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E5DB-76DB-48C5-987C-D4249C9ECBB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457200" y="444600"/>
            <a:ext cx="822960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55ED-B13A-468E-AEB9-6F04188D8A2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Классификация БД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ура </a:t>
            </a:r>
            <a:r>
              <a:rPr b="1" lang="ru-RU" sz="2400" spc="-1" strike="noStrike">
                <a:solidFill>
                  <a:srgbClr val="0b5395"/>
                </a:solidFill>
                <a:latin typeface="Arial"/>
                <a:ea typeface="Arial"/>
              </a:rPr>
              <a:t>клиент-сервер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рвер, выделенный для хран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изованной  БД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ит обработку клиентских запрос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енты получают по сети уже обработанные данны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результате упрощается написание программ – клиентов. Кроме того, к серверу может обращаться любое количество клиент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ы: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  <a:ea typeface="Arial"/>
              </a:rPr>
              <a:t>MS SQL Server, Orac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1543-A7F8-4545-9CF0-99567E71F03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</a:t>
            </a:r>
            <a:r>
              <a:rPr b="0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дром любой БД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дель представления данны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им </a:t>
            </a:r>
            <a:r>
              <a:rPr b="0" i="1" lang="ru-RU" sz="2400" spc="-1" strike="noStrike">
                <a:solidFill>
                  <a:srgbClr val="cc0099"/>
                </a:solidFill>
                <a:latin typeface="Arial"/>
                <a:ea typeface="Arial"/>
              </a:rPr>
              <a:t>реляционную модель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которой данные организованы  в вид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вумерных табл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ляционная модель данн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наиболее универсальной, к ней могу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ыть сведены другие моде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EF89-7974-48AC-AC02-2D50287D87E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-3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 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713880"/>
            <a:ext cx="91440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ждая реляционная таблица должна обладать следующими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ин элемент таблицы – один элемент данных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е столбцы содержат однородные по типу данные (целочисленный,  числовой, текстовый и т.д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ждый столбец имеет уникальное им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исло столбцов задается при создании таблиц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рядок записей в таблице может быть произвольны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иси не должны повторятьс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записей в таблице не ограничен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A62F-1676-4ACA-B41F-82D9A834FE1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 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реляционной таблице каждый столбец называется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по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его альтернативное назва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ме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вокупность элементов каждой строки называется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записью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(иначе 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те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ока заголовков называется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схемой отно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схемой отношения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  <a:ea typeface="Arial"/>
              </a:rPr>
              <a:t>СТУД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может быть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УДЕ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ФАМИЛИЯ, ИМЯ, ОТЧЕСТВО, ФАКУЛЬТЕТ, КУРС, ГРУППА)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де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УД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нош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а ФАМИЛИЯ, ИМЯ и т.д.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754E-93FF-49FF-9B0B-63EDB662262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124000" y="2500200"/>
          <a:ext cx="6912000" cy="2800440"/>
        </p:xfrm>
        <a:graphic>
          <a:graphicData uri="http://schemas.openxmlformats.org/drawingml/2006/table">
            <a:tbl>
              <a:tblPr/>
              <a:tblGrid>
                <a:gridCol w="1639800"/>
                <a:gridCol w="812880"/>
                <a:gridCol w="1403280"/>
                <a:gridCol w="2235240"/>
                <a:gridCol w="820800"/>
              </a:tblGrid>
              <a:tr h="60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КУЛЬТ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УР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др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нструктор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орис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нструктор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ковл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хнолог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Прямоугольник 3"/>
          <p:cNvSpPr/>
          <p:nvPr/>
        </p:nvSpPr>
        <p:spPr>
          <a:xfrm>
            <a:off x="500040" y="714240"/>
            <a:ext cx="228600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ношение СТУД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(Вся таблиц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3286080" y="714240"/>
            <a:ext cx="221472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хема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(строка заголов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5"/>
          <p:cNvSpPr/>
          <p:nvPr/>
        </p:nvSpPr>
        <p:spPr>
          <a:xfrm>
            <a:off x="6000840" y="714240"/>
            <a:ext cx="242892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(отдельные заголов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3357720"/>
            <a:ext cx="2000160" cy="785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трока (запись, кортеж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9"/>
          <p:cNvSpPr/>
          <p:nvPr/>
        </p:nvSpPr>
        <p:spPr>
          <a:xfrm>
            <a:off x="1928880" y="1857240"/>
            <a:ext cx="15714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1"/>
          <p:cNvSpPr/>
          <p:nvPr/>
        </p:nvSpPr>
        <p:spPr>
          <a:xfrm>
            <a:off x="7572240" y="1857240"/>
            <a:ext cx="78588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3"/>
          <p:cNvSpPr/>
          <p:nvPr/>
        </p:nvSpPr>
        <p:spPr>
          <a:xfrm flipH="1">
            <a:off x="6428880" y="1857240"/>
            <a:ext cx="11430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16"/>
          <p:cNvSpPr/>
          <p:nvPr/>
        </p:nvSpPr>
        <p:spPr>
          <a:xfrm flipH="1">
            <a:off x="5357520" y="1857240"/>
            <a:ext cx="221436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8"/>
          <p:cNvSpPr/>
          <p:nvPr/>
        </p:nvSpPr>
        <p:spPr>
          <a:xfrm flipH="1">
            <a:off x="4214880" y="1857240"/>
            <a:ext cx="335736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0"/>
          <p:cNvSpPr/>
          <p:nvPr/>
        </p:nvSpPr>
        <p:spPr>
          <a:xfrm flipH="1">
            <a:off x="3499920" y="1857240"/>
            <a:ext cx="407196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22"/>
          <p:cNvSpPr/>
          <p:nvPr/>
        </p:nvSpPr>
        <p:spPr>
          <a:xfrm>
            <a:off x="1571760" y="4071960"/>
            <a:ext cx="92844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50FC-A39A-41F5-B20B-269C1BF9905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</a:t>
            </a:r>
            <a:r>
              <a:rPr b="1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28760" y="128592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ервичным ключом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аблицы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зывается поле или группа полей, 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днозначно определяющие запис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е </a:t>
            </a:r>
            <a:r>
              <a:rPr b="0" lang="ru-RU" sz="2600" spc="-1" strike="noStrike">
                <a:solidFill>
                  <a:srgbClr val="cc0099"/>
                </a:solidFill>
                <a:latin typeface="Arial"/>
                <a:ea typeface="Arial"/>
              </a:rPr>
              <a:t>СТУДЕ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ервичным ключом может быть пол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АМИЛ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если во всем списке нет однофамильцев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это будет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остой ключ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есть однофамильцы, т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амилия, имя, отчество – создадут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оставной первичный ключ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AF62-909D-4467-B755-E127F3C684D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</a:t>
            </a:r>
            <a:r>
              <a:rPr b="1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760" y="128592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актике обычно в качеств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лючевог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ыбирают поле, в котором совпадения заведомо исключе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аким полем может служить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омер зачетной книжк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ден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6477-69AE-4C2E-A68A-1E9E784B251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 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999720"/>
            <a:ext cx="9144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ойства первичного ключа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ника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в таблице может быть назначе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лько оди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вичный ключ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составного ключа поля могут повторяться, но не вс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избыто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не должно быть полей, которые можно удалить из первичного ключа, при этом не нарушится его уникальност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E4DD-FF04-43C1-9C38-D3BEF2021F3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 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9720"/>
            <a:ext cx="9144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Связывание таблиц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бы избежать повторяющихся записей, приходят к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языванию табли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 таблицу СТУДЕНТ включить пол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УДЕНТ (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4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АМИЛИ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ЧЕСТВО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АКУЛЬТЕТ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УРС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УППА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НАЗВАНИЕ ву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АДРЕС ву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7D54-7830-46CD-9319-CF6E87BD126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Arial"/>
                <a:ea typeface="Arial"/>
              </a:rPr>
              <a:t>Модели данных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36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 при заполнении таблиц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ля каждого студен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дется указывать длинное наименование вуза и его адрес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юбая незначительная ошибка при вводе информации в эти поля приведет к нарушению непротиворечивости базы данны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шибка в адресе вуза приведет к тому, что появятся два вуза с одинаковым наименованием и разными адреса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упают в таком случае так: в таблицу 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  <a:ea typeface="Arial"/>
              </a:rPr>
              <a:t>СТУД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водят пол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код вуза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целое число) и добавляю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еще одну таблицу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УЗ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вуз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дрес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4ECA-0C1D-4BA2-B223-19EBAD13770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4617b"/>
                </a:solidFill>
                <a:latin typeface="Arial"/>
              </a:rPr>
              <a:t>Принципы проектирования информационных систем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ИС) –— совокупность содержащейся в базах данных информации и обеспечивающих её обработку информационных технологий и технических средств (Федеральный закон РФ от 27 июля 2006 года № 149-ФЗ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им относятся: поисковые, справочные, банковские системы, САПР и други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аза данн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ажнейший компонент любой информационной систем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структурированная информация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не только беспроблемно эксплуатировать систему , но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ифицирова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е, а также и развивать ее при модернизации предприятия, законодательства и форм отчет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F057-8610-4DBA-94F4-3A2BB7DF9B0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</a:t>
            </a:r>
            <a:r>
              <a:rPr b="0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  <a:ea typeface="Arial"/>
              </a:rPr>
              <a:t>СТУД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83763"/>
                </a:solidFill>
                <a:latin typeface="Arial"/>
                <a:ea typeface="Arial"/>
              </a:rPr>
              <a:t>ВУ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и этом будут связаны по полю 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ву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СТУД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ФАМИЛИЯ, ИМЯ, ОТЧЕСТВО, ФАКУЛЬТЕТ, КУРС, ГРУППА,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КОД ву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  <a:ea typeface="Arial"/>
              </a:rPr>
              <a:t>ВУ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КОД ву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НАЗВАНИЕ, АДРЕС, ТЕЛЕФОН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работе с такими таблицами повторяться могут только данные в поле «КОД вуза», а все необходимые сведения о вузе можно взять из таблицы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  <a:ea typeface="Arial"/>
              </a:rPr>
              <a:t>ВУ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этом,  ввод в поле «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КОД ву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» целого числа вместо длинного названия, принесет гораздо меньше ошиб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таблице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  <a:ea typeface="Arial"/>
              </a:rPr>
              <a:t>ВУ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ле «КОД вуза» буд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вичным ключ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а в таблице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СТУД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ле «КОД вуза» буде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нешним ключо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Line 7"/>
          <p:cNvSpPr/>
          <p:nvPr/>
        </p:nvSpPr>
        <p:spPr>
          <a:xfrm flipH="1">
            <a:off x="1979640" y="25732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979640" y="2573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5243400" y="2239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B253-4283-426C-9087-9BECE70485A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 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я связи реляционных таблиц необходимо ввести в обе таблицы одинаковые по типу пол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язи бывают нескольких типов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один к одному»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один ко многим»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многие ко многим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приведенном примере была установлена связь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ин ко мног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»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на запись в таблице </a:t>
            </a:r>
            <a:r>
              <a:rPr b="1" lang="ru-RU" sz="2800" spc="-1" strike="noStrike">
                <a:solidFill>
                  <a:srgbClr val="083763"/>
                </a:solidFill>
                <a:latin typeface="Arial"/>
                <a:ea typeface="Arial"/>
              </a:rPr>
              <a:t>ВУ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многие записи в таблице </a:t>
            </a:r>
            <a:r>
              <a:rPr b="0" lang="ru-RU" sz="2800" spc="-1" strike="noStrike">
                <a:solidFill>
                  <a:srgbClr val="cc0099"/>
                </a:solidFill>
                <a:latin typeface="Arial"/>
                <a:ea typeface="Arial"/>
              </a:rPr>
              <a:t>СТУДЕ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59" name="Прямая со стрелкой 2"/>
          <p:cNvCxnSpPr/>
          <p:nvPr/>
        </p:nvCxnSpPr>
        <p:spPr>
          <a:xfrm>
            <a:off x="5219640" y="6021000"/>
            <a:ext cx="5054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60" name="Прямая со стрелкой 5"/>
          <p:cNvCxnSpPr/>
          <p:nvPr/>
        </p:nvCxnSpPr>
        <p:spPr>
          <a:xfrm>
            <a:off x="5219640" y="6021000"/>
            <a:ext cx="5054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E06E-5576-410D-AA23-33EED714C98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Анализ предметной област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713880"/>
            <a:ext cx="91440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ектирование баз данных начинает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анализа предметн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в которой будет работать И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ом такой работы является </a:t>
            </a:r>
            <a:r>
              <a:rPr b="0" i="1" lang="ru-RU" sz="2400" spc="-1" strike="noStrike">
                <a:solidFill>
                  <a:srgbClr val="cc0099"/>
                </a:solidFill>
                <a:latin typeface="Arial"/>
                <a:ea typeface="Arial"/>
              </a:rPr>
              <a:t>техническое </a:t>
            </a:r>
            <a:r>
              <a:rPr b="0" i="1" lang="ru-RU" sz="2400" spc="-1" strike="noStrike">
                <a:solidFill>
                  <a:srgbClr val="cc0099"/>
                </a:solidFill>
                <a:latin typeface="Arial"/>
                <a:ea typeface="Arial"/>
              </a:rPr>
              <a:t>	</a:t>
            </a:r>
            <a:r>
              <a:rPr b="0" i="1" lang="ru-RU" sz="2400" spc="-1" strike="noStrike">
                <a:solidFill>
                  <a:srgbClr val="cc0099"/>
                </a:solidFill>
                <a:latin typeface="Arial"/>
                <a:ea typeface="Arial"/>
              </a:rPr>
              <a:t>зад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разработку И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техническом задании строго указываетс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ис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ходных и выходных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исок запрос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 ИС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говаривается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интерфей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определяющий переход о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тор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ления  данных в Б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представлению, принятому сред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ьзоват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логическом уровне соста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щий список по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торый может насчитывать от единиц до тысяч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исывают каждое поле п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ипу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щий список полей разби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ные таблиц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F985-EBA5-4E87-AA65-8F3667AA4F5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Нормализация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разбиение –основных таблиц на более мелкие с целью избежать многократно повторяющихся данных в запис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акое разбиение уменьшает объем памяти, занимаемый базой данных на диске, и обеспечива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противоречив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анных в Б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с нормализации имее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ерацион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пошаговый) характер, осуществляется методо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ьных фор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B4DA-CC72-4DD4-B24D-F55495E6472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  <a:ea typeface="Arial"/>
              </a:rPr>
              <a:t>Нормализац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856800"/>
            <a:ext cx="8964720" cy="559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вая нормальная 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блица называется приведенной к первой нормальной форме, если все ее атрибуты неделим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таблица, содержащая поле ФИО, не приведена к первой нормальной форме, если в запросах БД требуется выдать отдельно фамилию или имя. Разработчики Б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нача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троят так исходную таблицу, что бы она была в первой нормальной форм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с нормализации заканчивается созданием 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  <a:ea typeface="Arial"/>
              </a:rPr>
              <a:t>схемы данных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хеме указываются вс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изован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таблицы с их полями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заимосвяз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между ни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казываются типы взаимосвяз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цептуальная  (Инфологическая)  мод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ы данных включает в себя описание информационных объектов и связей между ни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CEFB-9096-4A4E-9DA7-9AA267F5889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04617b"/>
                </a:solidFill>
                <a:latin typeface="Arial"/>
                <a:ea typeface="Arial"/>
              </a:rPr>
              <a:t>Схема данных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0" y="112536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льнейшая работа над проектом связана с конкретной СУБД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ы рассмотрим эту часть на примере СУБД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S Acc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разработ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Б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системой управления базами д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ляционного тип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ю базу данных по умолчани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хранит на диске в виде одного файла с расшире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*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cd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*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d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ля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003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нные хранятся в виде таблиц, строки которых состоят из 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  <a:ea typeface="Arial"/>
              </a:rPr>
              <a:t>наборов по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пределённых тип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каждой таблицей могут быть связаны индексы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юч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BF43-4411-4CD5-8E4A-BFB3F17C7A0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85920" y="-192960"/>
            <a:ext cx="59292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704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9ca3"/>
                </a:solidFill>
                <a:latin typeface="Arial"/>
                <a:ea typeface="Times New Roman"/>
              </a:rPr>
              <a:t>Проектирование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блицы могут иметь однотипные поля и это позволяет устанавливать между ними связ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ипичными операциями над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являются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абота с таблицам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создание, модификация, удаление таблиц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Ввод данн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ы непосредственно или с помощью </a:t>
            </a:r>
            <a:r>
              <a:rPr b="0" i="1" lang="ru-RU" sz="2800" spc="-1" strike="noStrike">
                <a:solidFill>
                  <a:srgbClr val="cc0099"/>
                </a:solidFill>
                <a:latin typeface="Arial"/>
                <a:ea typeface="Arial"/>
              </a:rPr>
              <a:t>форм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Поиск данн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таблицах по определенным критериям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запро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Создание отчет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 содержим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Д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F52D-B520-4851-959A-284E8E004A6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85920" y="-192960"/>
            <a:ext cx="59292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704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9ca3"/>
                </a:solidFill>
                <a:latin typeface="Arial"/>
                <a:ea typeface="Times New Roman"/>
              </a:rPr>
              <a:t>Проектирование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Таблиц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бота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чинается с определения реляционных таблиц и их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олей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с указанием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типов пол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т.е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здан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кета таблиц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таблиц предпочтительней 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жиме конструктор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ид рабочего ок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лен на след. слайд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70C4-C78C-4AB2-BF7C-000D84ADBD8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108000" y="0"/>
            <a:ext cx="1091088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Таблиц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F15A-2FE1-40BF-8F54-1031749F097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Содержимое 4" descr=""/>
          <p:cNvPicPr/>
          <p:nvPr/>
        </p:nvPicPr>
        <p:blipFill>
          <a:blip r:embed="rId1"/>
          <a:srcRect l="0" t="0" r="1377" b="4262"/>
          <a:stretch/>
        </p:blipFill>
        <p:spPr>
          <a:xfrm>
            <a:off x="-757080" y="-171360"/>
            <a:ext cx="12169440" cy="74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0C00-AE6D-4FD9-89E1-651560260B6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Arial"/>
              </a:rPr>
              <a:t>Принципы проектирования информационных систем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енный цикл разработки сложн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ладывается из этапов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 поставленной задач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ировани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ирования и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ирования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я и сопровожд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Таблиц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десь задаются </a:t>
            </a:r>
            <a:r>
              <a:rPr b="0" i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имена полей 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х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ип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ой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же находи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дактор свойст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ей, где указываю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ойства пол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ли пол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кстов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его длина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ислов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тип целый или вещественный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щелчок по полю ввода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«размер поля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иведёт к появлению указателя списка 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завершении создания таблиц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аётся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имя табли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31C2-8EFD-4127-8BA4-3A26186CAAB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чало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53802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63440" indent="-16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уск → Программы →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icrosoft Office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icrosoft Acces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163440" indent="-16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Файл → Создать → Новая база данны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163440" indent="-16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дать имя создаваемой базе и сохранить на диск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Таблиц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алее определяются реляционные связи между таблицами        открывается окно «</a:t>
            </a:r>
            <a:r>
              <a:rPr b="1" lang="ru-RU" sz="2600" spc="-1" strike="noStrike">
                <a:solidFill>
                  <a:srgbClr val="990099"/>
                </a:solidFill>
                <a:latin typeface="Arial"/>
                <a:ea typeface="Arial"/>
              </a:rPr>
              <a:t>Схема данны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окне 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обавление таблиц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 выбираем таблицы, которые следует связ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тем методом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еретаски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указываем связываемые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ол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вершается этот этап нажатием кнопки 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зда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DF3C-F7B2-4F1D-8930-1FE47ABCFCE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Прямая со стрелкой 2"/>
          <p:cNvCxnSpPr/>
          <p:nvPr/>
        </p:nvCxnSpPr>
        <p:spPr>
          <a:xfrm>
            <a:off x="2626920" y="1988640"/>
            <a:ext cx="57708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Окно «Изменений связей»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7280-0684-4A45-9966-38367B465A4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Содержимое 4" descr=""/>
          <p:cNvPicPr/>
          <p:nvPr/>
        </p:nvPicPr>
        <p:blipFill>
          <a:blip r:embed="rId1"/>
          <a:srcRect l="21452" t="20930" r="37847" b="44966"/>
          <a:stretch/>
        </p:blipFill>
        <p:spPr>
          <a:xfrm>
            <a:off x="785880" y="1357200"/>
            <a:ext cx="78897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0" y="785520"/>
            <a:ext cx="91440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разумном подходе к проектированию баз данных пользователи не получают прямой доступ к базовым таблицам, а делают это посредством </a:t>
            </a:r>
            <a:r>
              <a:rPr b="0" i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запрос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просы - это основное средств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осмотра, изменения и анализ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и, которая содержится в одной или в нескольких таблицах базы данны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прос можно использовать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просмотр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дмножества записе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аблицы без предварительного открытия этой таблицы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объединения в одну таблицу данных из нескольких таблиц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просмотр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тдельных поле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аблиц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я вычислени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д значениями пол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5721-7535-4370-8734-83BA04CD979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Заголовок 1"/>
          <p:cNvSpPr/>
          <p:nvPr/>
        </p:nvSpPr>
        <p:spPr>
          <a:xfrm>
            <a:off x="500040" y="2142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500040" y="2142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Заголовок 1"/>
          <p:cNvSpPr/>
          <p:nvPr/>
        </p:nvSpPr>
        <p:spPr>
          <a:xfrm>
            <a:off x="214200" y="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9ca3"/>
                </a:solidFill>
                <a:latin typeface="Calibri"/>
              </a:rPr>
              <a:t>За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0" y="785520"/>
            <a:ext cx="91440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Рассмотрим создание запроса на выборку с помощью </a:t>
            </a:r>
            <a:r>
              <a:rPr b="1" lang="ru-RU" sz="2400" spc="-1" strike="noStrike">
                <a:solidFill>
                  <a:srgbClr val="750000"/>
                </a:solidFill>
                <a:latin typeface="Verdana"/>
                <a:ea typeface="Times New Roman"/>
              </a:rPr>
              <a:t>Конструкто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Для создания нового пустого запроса в режиме конструктора надо щелкнуть на пиктограмме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онструктор запросов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адк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090C-1E0C-4ED7-8A8C-46A7E175F1A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Заголовок 1"/>
          <p:cNvSpPr/>
          <p:nvPr/>
        </p:nvSpPr>
        <p:spPr>
          <a:xfrm>
            <a:off x="500040" y="2142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500040" y="2142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214200" y="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9ca3"/>
                </a:solidFill>
                <a:latin typeface="Calibri"/>
              </a:rPr>
              <a:t>За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8015-877A-4332-89C3-FC5D5CAB606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Заголовок 1"/>
          <p:cNvSpPr/>
          <p:nvPr/>
        </p:nvSpPr>
        <p:spPr>
          <a:xfrm>
            <a:off x="500040" y="2142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Заголовок 1"/>
          <p:cNvSpPr/>
          <p:nvPr/>
        </p:nvSpPr>
        <p:spPr>
          <a:xfrm>
            <a:off x="500040" y="2142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Заголовок 1"/>
          <p:cNvSpPr/>
          <p:nvPr/>
        </p:nvSpPr>
        <p:spPr>
          <a:xfrm>
            <a:off x="214200" y="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9ca3"/>
                </a:solidFill>
                <a:latin typeface="Calibri"/>
              </a:rPr>
              <a:t>За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Объект 7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6912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7432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Запросы</a:t>
            </a:r>
            <a:br>
              <a:rPr sz="26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2743200" cy="49802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Откроется активное окно диалога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Добавление таблицы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на фоне неактивного окна «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Запрос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В этом окне можно выбрать таблицы и готовые запросы для создания новых запро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55D7-5CB4-494C-A297-06244A4271F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Объект 6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4608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Запрос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F5D8-69C9-44C7-8566-1617A7346D7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Окно Конструктора состоит из двух частей – верхней и нижне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верхней части окна размещается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хема данных запроса,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которая содержит список связанных таблиц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нижней части окна находится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Бланк построения запроса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, в котором каждая строка выполняет определенную функцию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Запрос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38B5-6474-431D-BE80-9568D71A03C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Содержимое 4" descr=""/>
          <p:cNvPicPr/>
          <p:nvPr/>
        </p:nvPicPr>
        <p:blipFill>
          <a:blip r:embed="rId1"/>
          <a:srcRect l="0" t="0" r="15606" b="3489"/>
          <a:stretch/>
        </p:blipFill>
        <p:spPr>
          <a:xfrm>
            <a:off x="0" y="11592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E717-A32E-42BB-BC0D-B41408F4FDB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Структура базы данных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ирование данных рассмотрим на примере студенческой группы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ждый член группы во многом индивидуален, и характеризовать его можно с разных сторон. Но деканат, в основном, заинтересуют следующие данные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дметная обла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фамилия студен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  <a:ea typeface="Arial"/>
              </a:rPr>
              <a:t>им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Arial"/>
                <a:ea typeface="Arial"/>
              </a:rPr>
              <a:t>отчеств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курс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наименование групп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массив оценок по изучаемым дисциплин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Запрос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5215-425D-4709-9F26-4D8D2B88CE3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Условия ограниченного поиска или критерий поиска информации вводится в строке "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Условия отбора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" и строке "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Или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ведем критерий поиска - "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5/A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" в строке "Условия" для поля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Оценка.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этом случае в результате выполнения запроса на экране будут отображаться все фамилии студентов, которые получили оценку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5/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Запросы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000080"/>
            <a:ext cx="91440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нами был создан простейший запрос, который называется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запрос на выборку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а языке запросов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о образцу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Закрытие запроса сопровождается присвоением ему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имени,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Calibri"/>
              </a:rPr>
              <a:t>например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Calibri"/>
              </a:rPr>
              <a:t>"Успеваемость студентов"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EF8E-6CA7-44CB-B05D-2527DB95B3F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Рисунок 4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7632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  <a:ea typeface="Arial"/>
              </a:rPr>
              <a:t>Запрос с параметром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араметрические запросы создаются, когда предполагается, что данный запрос придется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полнять многократно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различных значениях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араметро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 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апрос с параметром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это запрос, при выполнении которого будет выводиться на экран диалоговое окно с приглашением ввести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начени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какого-либо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араметр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здается этот запрос в режиме конструктора, но только в строк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словия отбор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пол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амил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ведем условие отбора в виде приглашения в квадратных скобках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A269-8E34-419D-8003-44872C29109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  <a:ea typeface="Arial"/>
              </a:rPr>
              <a:t>Запрос с параметром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 [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ведите фамилию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]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этом случае в результате выполнения запроса на экране будет отображатьс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амил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студента и все дисциплины, по которым он получил оценк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4665-4824-4B9E-AD74-6286954C26C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Рисунок 4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77752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Отче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едназначены для печати данных, содержащихся в таблицах и запросах, в красиво оформленном ви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создания отчётов рационально воспользоваться </a:t>
            </a:r>
            <a:r>
              <a:rPr b="1" lang="ru-RU" sz="2600" spc="-1" strike="noStrike">
                <a:solidFill>
                  <a:srgbClr val="990099"/>
                </a:solidFill>
                <a:latin typeface="Arial"/>
                <a:ea typeface="Arial"/>
              </a:rPr>
              <a:t>Мастером отчётов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база данных </a:t>
            </a:r>
            <a:r>
              <a:rPr b="1" lang="ru-RU" sz="2600" spc="-1" strike="noStrike">
                <a:solidFill>
                  <a:srgbClr val="0070c0"/>
                </a:solidFill>
                <a:latin typeface="Arial"/>
                <a:ea typeface="Arial"/>
              </a:rPr>
              <a:t>СОЗДА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►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НОВЫЙ ОТЧЁ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едактировать отчёт, созданный </a:t>
            </a:r>
            <a:r>
              <a:rPr b="0" lang="ru-RU" sz="2600" spc="-1" strike="noStrike">
                <a:solidFill>
                  <a:srgbClr val="990099"/>
                </a:solidFill>
                <a:latin typeface="Arial"/>
                <a:ea typeface="Arial"/>
              </a:rPr>
              <a:t>Мастер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можно с помощью </a:t>
            </a:r>
            <a:r>
              <a:rPr b="0" lang="ru-RU" sz="2600" spc="-1" strike="noStrike">
                <a:solidFill>
                  <a:srgbClr val="00b050"/>
                </a:solidFill>
                <a:latin typeface="Arial"/>
                <a:ea typeface="Arial"/>
              </a:rPr>
              <a:t>конструктор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0E8C-C3B8-4154-8826-A2E65F69428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Структура базы данных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из всего многообразия данных выбираются только некоторы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зд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ая мод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объек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анные упорядочиваются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порядку следования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применяемым типам (форматам) данных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ле чего они могут быть обработаны компьюте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14A3-8E16-4C1C-AFE8-2803BB967D0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Понятие структуры БД</a:t>
            </a:r>
            <a:r>
              <a:rPr b="0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вокупность структурированных данных, относящихся к одно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ой обла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называется </a:t>
            </a:r>
            <a:r>
              <a:rPr b="1" i="1" lang="ru-RU" sz="2800" spc="-1" strike="noStrike">
                <a:solidFill>
                  <a:srgbClr val="0f6fc6"/>
                </a:solidFill>
                <a:latin typeface="Arial"/>
                <a:ea typeface="Arial"/>
              </a:rPr>
              <a:t>базой данных(БД)</a:t>
            </a:r>
            <a:r>
              <a:rPr b="1" lang="ru-RU" sz="2800" spc="-1" strike="noStrike">
                <a:solidFill>
                  <a:srgbClr val="0f6fc6"/>
                </a:solidFill>
                <a:latin typeface="Arial"/>
                <a:ea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вокупность программ,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ющих управление и использование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БД в удобной для пользователя форме, 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истемой управления базой данных  (СУБД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E142-652F-4F6B-AAFA-CACAFE00080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Классификация</a:t>
            </a:r>
            <a:r>
              <a:rPr b="0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 БД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и обработк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нных БД подразделяются на </a:t>
            </a: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Arial"/>
              </a:rPr>
              <a:t>централизованны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распределенны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изованная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ранится целиком в памяти одной вычислительной систем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енная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оит из нескольких, возможно пересекающихся или дублирующих друг друга БД, хранимых в памяти разных вычислительных систем, объединенных в сеть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ённу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у баз данных можно рассматривать как партнёрство между отдельными локальными СУБД на отдельных локальных узлах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A388-BBAA-4C0F-8F11-3CBF31FB099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Классификация</a:t>
            </a:r>
            <a:r>
              <a:rPr b="0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 БД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способу доступа к данны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Д распределяются на </a:t>
            </a:r>
            <a:r>
              <a:rPr b="0" i="1" lang="ru-RU" sz="2400" spc="-1" strike="noStrike">
                <a:solidFill>
                  <a:srgbClr val="0b5395"/>
                </a:solidFill>
                <a:latin typeface="Arial"/>
                <a:ea typeface="Arial"/>
              </a:rPr>
              <a:t>локальный и удаленны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сетевой) доступ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окальны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доступ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а управления обрабатывает БД, которая хранится на том же компьютер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даленны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доступ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это обращение к БД, которая хранится на одном из компьютеров се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7A35-01ED-4B95-A4E3-7D2C688F0CF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584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Классификация БД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07560"/>
            <a:ext cx="91440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даленный доступ может быть выполнен по принципу </a:t>
            </a:r>
            <a:r>
              <a:rPr b="0" lang="ru-RU" sz="2400" spc="-1" strike="noStrike">
                <a:solidFill>
                  <a:srgbClr val="0b5395"/>
                </a:solidFill>
                <a:latin typeface="Arial"/>
                <a:ea typeface="Arial"/>
              </a:rPr>
              <a:t>файл-серв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ru-RU" sz="2400" spc="-1" strike="noStrike">
                <a:solidFill>
                  <a:srgbClr val="0b5395"/>
                </a:solidFill>
                <a:latin typeface="Arial"/>
                <a:ea typeface="Arial"/>
              </a:rPr>
              <a:t>клиент-серв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у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файл-серв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дполагает выделение одного из компьютеров сети (сервер) для хранения централизованной Б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е остальные компьютеры сети (клиенты) исполняют роль рабочих станций. Они копируют требуемую часть централизованной БД в свою память и обрабатывают информацию на мес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увеличивается нагрузка на каналы се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приводит к снижению производительности ИС в цел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ом такой архитектуры БД является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  <a:ea typeface="Arial"/>
              </a:rPr>
              <a:t>Microsoft Access</a:t>
            </a:r>
            <a:r>
              <a:rPr b="0" lang="en-US" sz="2400" spc="-1" strike="noStrike">
                <a:solidFill>
                  <a:srgbClr val="0f6fc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03:04Z</dcterms:created>
  <dc:creator>данилова</dc:creator>
  <dc:description/>
  <dc:language>en-US</dc:language>
  <cp:lastModifiedBy>Наталья</cp:lastModifiedBy>
  <dcterms:modified xsi:type="dcterms:W3CDTF">2020-12-08T12:44:16Z</dcterms:modified>
  <cp:revision>91</cp:revision>
  <dc:subject/>
  <dc:title>База данных</dc:title>
</cp:coreProperties>
</file>