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29FD-FB53-40E5-A7BD-954E23B123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E51-F23B-426D-9CED-B9A595EFD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DB7-DDDE-4788-BC54-79F7EBA5D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586-02E4-4133-983C-C408171A6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7868-D250-4D99-9CE3-0B41D6F29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25C-D811-4EED-BFD8-E64368D0D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AEFA-40A7-4087-AB33-CAED23F72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09A-291E-4432-A517-8A2BA7E40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A17-5F0D-4E9A-ACB3-E8A05EC0A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03C3-7087-4ADC-9CC0-B0EC76CDD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86F0-6E0C-4A25-84FD-683452A7A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0D2-FDCC-4662-97BA-84E67DAA1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F32C-C539-4E7A-ADDF-E207C7170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B25C-EFED-43EC-8506-1DA4A9B4E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0BD-AC64-4139-A1F4-6B317415B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8C4-55A8-4ED9-A6DF-B00866294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143B-419F-48BF-9A64-68D5F44F1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4024-9DEE-47D7-A6F5-AF76CA26A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6EA-8053-4F8B-AD99-FD5D64A40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C9C0-2CC4-4284-9EED-7BE9BF751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4923-0227-4D46-989F-2EACC0A3A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29D-B054-4425-984A-20CBEC5A6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C56-F0B0-4E27-8FE3-28F5DD323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363-39F3-4C54-BD56-01AEF6601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70F-2736-4C5E-B005-591D945C1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B29-F7AE-4B60-8620-A30AEB334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B627-C090-4E4E-92AD-9F8A3E216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93CB-45A3-42B5-A34C-611AC5FFC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0FBB-5E24-4B11-985E-BA5031D63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4DA6-29CB-492D-9F58-FE3936FEA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C898-23EE-4C77-A8CB-DE22AFE26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A6F-8A96-4396-AF22-2AF56CC4A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951-F2AB-4283-8839-5669EF8EB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8E7-1661-46C7-83E2-D611911CE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12C-FEE9-4560-96B7-13ADD1B32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C5F2-32F4-41C7-8DBC-4E74D6C30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0BF7-8312-4ADD-89B5-C8C25823B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6DA4-36C9-43EF-93C9-A04662EB1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BF70-326E-4AAF-8198-97DE71D9C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BD5-46CA-437D-AD2A-98CA18E70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298-B007-4C67-A506-BBE86BE31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68FE-B360-4158-872B-FB6563A5D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C0E2-5466-458F-8348-57715781E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BC2-A320-4B3E-8B2A-181E376291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27B3-47EA-4622-88A9-D82194D86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B73-80E4-47F8-A33C-2E071039F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32AF-999D-4832-B2A4-EDC837E4C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D70D-2C86-4A07-A3C5-AA1765773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49A4-9BE0-4920-9FF3-3D80BB64B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F5F9-71AE-4783-BA17-DD0190C73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1B8-1739-4F5D-A80D-D2AABD487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B37-F17A-4D23-A688-4B5F767DD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B210-8BE4-46E6-B35C-4AD9C7D88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6D02-4C47-4172-B863-90DF5BF74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C15-0517-4360-BDAD-18227F02F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9CA6-8DDF-43AF-B5EC-D4014205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6F04-AB28-44FD-9305-BE8514AE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743F-D5F8-461B-85C2-9AA9017B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8508-142D-4B95-A079-A9147AE3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60B7-633B-45C2-A251-070404F1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2A9C-E837-4AD3-BE14-96CBB02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EFCF-9E96-47B4-8F21-A4316410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017B-86AB-4671-81F2-C5704E02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EC39-06E9-4334-A1E8-36DF265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B524-6A40-4DD8-A78F-28955A8A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81A-84EA-4B8F-BB54-24EB288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9D6E-95CB-4B54-8D52-B8161629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E88-22BA-49F2-BC73-929239F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FE3-FD78-4893-AAD3-0918BB7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85FB-1F61-4F65-9D8F-8546F0F8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FAC-EE5E-4A66-A032-27D53C29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E0D1-A26A-482F-A9F0-0698D2E0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6B9B-CD08-48E0-A8D9-68E40D88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0705-0A58-4C36-B871-D819E670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DA81-7AE0-4E40-BC42-A8F9A9BA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79C8-4C08-4EB0-B8E7-9C71A5D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1EE3-CA3C-4F92-A8B4-46AE5D5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6AA3-B480-41B7-A003-2D3B15C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8BFC-3BA3-4FEA-896F-80D4587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FA7-5E8F-47A1-9051-6F8DE346FF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8AC-E767-41AD-BBE0-D7034DA704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29B-AFAC-4694-93B2-E189D60A06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редмет и основные понятия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062-AB16-4395-8366-A59BB13741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овокупность сведений (данных), которая воспринимается из окружающей среды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выдается в окружающую среду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ли сохраняется внутри определен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AC2B-61DE-4C82-B4AC-8A03C6244D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х этапах носителем данных был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информация от одного человека к другому передавалась устно. Этот способ передачи информации был не наде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развития цивилизации, объемы информации росли, и человеческой памяти стало не хватать; появила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еликое изобретение, было сделан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уме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шести тысяч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лся смысл информационных сообщений. Появилась возможность </a:t>
            </a: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обобщать, сопоставлять, переосмысли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нее сохраненные с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467-2D35-4B75-86FE-6D8383D158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дало толчок развитию истории, литературы, точным  наукам и в конечном итоге изменило общественную жизнь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зобретение письменности характеризует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ервую информационную революцию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B4CC-D8B1-4ED3-A55A-BCB3E71FC7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ее накопление человечеством информации привело 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ю числа пользователей 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исьменные труды одного человека могли быть достоянием небольшого окру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шее противоречие было разрешено создание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чатного стан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был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торая информационн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ала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 к информации перестал быть уделом избранных, появилась возможность многократно увелич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обмена 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ивело к масштабным изменениям в </a:t>
            </a:r>
            <a:r>
              <a:rPr b="0" i="1" lang="ru-RU" sz="2400" spc="-1" strike="noStrike">
                <a:solidFill>
                  <a:srgbClr val="0000e5"/>
                </a:solidFill>
                <a:latin typeface="Arial"/>
              </a:rPr>
              <a:t>науке, культуре и обществен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EDE-E0FF-4A93-8070-E49CFF7BCF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тья информационная револю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язывается с </a:t>
            </a:r>
            <a:r>
              <a:rPr b="0" lang="ru-RU" sz="2800" spc="-1" strike="noStrike">
                <a:solidFill>
                  <a:srgbClr val="0000e5"/>
                </a:solidFill>
                <a:latin typeface="Arial"/>
              </a:rPr>
              <a:t>открытием электричест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явлением (в кон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 на его основ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едств коммуник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ф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и накопления информации для тех времен ста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истине безграни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скорость обмена очень выс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356-AFB6-4964-802B-25FD3C7A8A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ередине ХХ века, появились быстрые технологические процессы, управлять которыми человек не успе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управления могла решаться только с помощью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ниверсальных автома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обрабатывают данные и выдают решение в форм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правляющих команд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йчас эти автоматы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1C66-41EF-4B2E-88B9-C1B31B08A4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жизни челов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е время отмечается как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твертая информационная революц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ями информации стали миллионы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ились дешевые компьют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ступные миллионам пользов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AD5-30AB-4CA2-9A84-31955E8CF0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для совместного участия в информационном процессе соединяются в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омпьютерные се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явилас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мирная компьютерная сеть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Интер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формирова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е информационное простра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488-DD4E-49BC-8C51-74EEA1B3AC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ших глазах появляется, так называемое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ое общ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де акцент внимания и значимости смещается с традиционных видов ресурсов (материальные, финансовые, энергетические и пр.) 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й, хотя всегда существовал, но не рассматривался как экономическая катег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E3DF-4290-4F1C-8A78-00CA11A288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готовленные людьми для социального использования в обществе и зафиксированные на материальном носите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страны, региона, организации все чаще рассматриваются ка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ресур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налогичные по значимости запасам сырья, энергии, ископаемых и прочим ресур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C75E-10A1-4550-973B-A5E35B670A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этой лекции мы рассмот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информатика, и что мы будем изучать в рамках курса «Информатика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информация, и история развития понятия «информация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нфор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это и наука, и область прикладных исследований, и учебная дисцип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7E9-264A-433F-8DFE-BEB1488D0A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ейшие свойства информ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ивность и субъ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еква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806-691D-4FCB-839B-15BA1396AA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одирование информации. Системы счисл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19DD-29E8-4BE6-84E4-7673A80FFA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была возможность работы с да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вид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кст, звук, графика и т.п.), необход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фицир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 их пред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жно сделать с помощью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одировани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анием мы занимаемся довольно часто, например, человек мыслит весьма расплывчатыми понятиями, и, чтобы донести мысль от одного человека к другому, примен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– это система кодирования пон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писать слова языка, применяется, опять же, кодирование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3DF-29A7-45E1-9187-3F4F7E4D98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работки различных видов информации на компьютере требуетс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версальная система код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числительной технике использ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ичное код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о основано на представлении данных последовательностью всего двух знаков: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знаки называются двоичными цифрами, по-английски —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nary dig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окращенн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B16D-ECBB-4E6B-9389-F256805C9F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битом могут быть выражены два понятия: 0 или 1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да или 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е или бел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истина или лож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личество битов увеличить до двух, то уже можно выра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различных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     01       10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мя битами можно закодир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ем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значен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   001    010    011     100    101     110   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бит или 1 байт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56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A587-6B82-422F-B002-C9374F9C01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я на единицу количество разрядов в системе двоичного кодирования, мы увеличиваем в два раза количество значений, которое можно закодир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формула имеет ви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независимых кодируемых зна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формула наз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улой Шенн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астный случа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10EB-0D5A-4D53-9AE0-2B98C1E2B1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лишком мелкая единица измерения информации. На практике чаще примен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й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бай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того, чтобы закодирова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мволы алфав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клавиши клавиат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минимальной единицей адресуемой памяти компьюте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обратиться в память можно к байту, а не би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й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би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крупные производ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ы информ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илобайт (Кбайт) = 1024 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бай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егабайт (Мбайт) = 1024 К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бай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игабайт (Гбайт) = 1024 М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бай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рабайт (Тбайт) = 1024 Г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бай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Петабайт  (Пбайт)=  1024 Т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5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бай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940C-F4CE-4184-B4C1-85C2787B9A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чисел можно закодировать нулями и единицами в 10 позициях (10 битах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байт нужно отвести для записи числа 1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A73-6EA8-47DD-8F7F-752F1BF753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десяти битах можно закодирова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024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 одном байте можно записать числа от 0 до 255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 (1 байт = 8 бит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55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 для записи этого числа одного байта м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байта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т. Следовательно в двух байтах можно записать числа от 0 до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= 655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655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0, то для записи заданного числа нужно отвести 2 б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597-81DF-445F-B80B-06784BE9D6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чейки памяти ЭВ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арная ячейка памяти ЭВМ имеет длину 8 бит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й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Каждый байт имеет свой номер (его называют адрес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ую последовательность бит, которую ЭВМ может обрабатывать как единое целое,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ым слов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машинного слова зависит от разрядности процессора и может быть равной 16, 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та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F72-1DE1-4C06-841E-D1F1FDA4B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лексная, техническая на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пособ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оп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образ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защ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с помощью средств вычислительной техник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3463-07F0-4AB3-A545-0D3B4475E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8093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способ изображения чисел и соответствующие ему правила действия над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истемах счисления величина знака, которую он обозначает, не завис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оложения этого знака в записи числа , то он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зицион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ами счисления . Например, римские циф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С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, в которой значение каждой цифр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висит от мес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овательности цифр в записи числа,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ример, общепринятая  десятичная система счисления является пози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C24-F394-41F9-964A-31E167851C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используемых цифр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иционной системы счисления. Обозначается осно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употребительной формой записи числа является сокращенная форма записи разложени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 степеням основания 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B527-41B8-49B1-838C-D307B51BF2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снование системы счисления равн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нное в этой системе, можно представить в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ясь этой формулой можно легко перевести число из системы счисления с  основани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десятич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684360" y="3645000"/>
                <a:ext cx="7343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8"/>
              <p:cNvSpPr txBox="1"/>
              <p:nvPr/>
            </p:nvSpPr>
            <p:spPr>
              <a:xfrm>
                <a:off x="4067280" y="1773360"/>
                <a:ext cx="21841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227640" y="1773360"/>
                <a:ext cx="1440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1A22-7162-42E7-8346-B6F1162EC6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6,387 = 2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 6*10°+ 3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 8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 7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=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уж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ие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счис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казатель степен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к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омер  позиции цифр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писи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умерация ведется слева на право, начиная с нул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перевода двоичного числа в десятичную 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1,1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0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1×2° + 1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1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 + 1 + 1/2 + 1/4 = 5 + 0,5 + 0,25 = 5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A86-ADF2-417C-89E4-FC9C8932BA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чисел в позиционной системе с основание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име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ифр. Обычно для этого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10 использую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х арабских цифр, а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gt;10 к десяти арабским цифрам добавляют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примеры алфавитов нескольких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3716280"/>
          <a:ext cx="8424720" cy="2498760"/>
        </p:xfrm>
        <a:graphic>
          <a:graphicData uri="http://schemas.openxmlformats.org/drawingml/2006/table">
            <a:tbl>
              <a:tblPr/>
              <a:tblGrid>
                <a:gridCol w="2066760"/>
                <a:gridCol w="3911760"/>
                <a:gridCol w="244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системы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234567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56789ABCDEF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D9A8-14B2-4FDA-B612-5737E816B2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ие системы, к которой относится число, обозначается подстрочным индексом к этому чи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1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367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3C73-95F0-4E55-9E78-0DA143C3D4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цел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ые числа могут представляться в компьютере со знаком или без зн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дирования целых чисел от 0 до 255 достаточно иметь 8 разрядов двоичного кода (8 б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надцать бит позволяют закодировать целые числа о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до 65 535, а 24 бита — более 16,5 миллионов разных знач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D48-F017-4372-AFF2-2FF06D749E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целых чисел без зн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е числа без знака обычно  занимают  в  памяти  компьютера  од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4 байта 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однобайтовом  формате  принимают  значения  от  0000000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до   1111111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вухбайтовом формате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00000000 0000000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  11111111 1111111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5F2C-DC2D-4B5E-894F-886D3E6D7F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без зн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число 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днобайтовом форма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число 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вухбайтовом форма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число 65535 в двухбайтовом форма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427640" y="2997360"/>
            <a:ext cx="2520720" cy="48240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6"/>
          <p:cNvGrpSpPr/>
          <p:nvPr/>
        </p:nvGrpSpPr>
        <p:grpSpPr>
          <a:xfrm>
            <a:off x="7308360" y="2924280"/>
            <a:ext cx="2088000" cy="552960"/>
            <a:chOff x="7308360" y="2924280"/>
            <a:chExt cx="2088000" cy="552960"/>
          </a:xfrm>
        </p:grpSpPr>
        <p:sp>
          <p:nvSpPr>
            <p:cNvPr id="238" name="Text Box 7"/>
            <p:cNvSpPr/>
            <p:nvPr/>
          </p:nvSpPr>
          <p:spPr>
            <a:xfrm>
              <a:off x="7380360" y="292428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мера разрядов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7397640" y="313992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ты числ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7308360" y="3068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 flipH="1">
              <a:off x="7308360" y="32842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1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033880" cy="52884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2"/>
          <p:cNvGrpSpPr/>
          <p:nvPr/>
        </p:nvGrpSpPr>
        <p:grpSpPr>
          <a:xfrm>
            <a:off x="7056000" y="4292640"/>
            <a:ext cx="2088000" cy="552960"/>
            <a:chOff x="7056000" y="4292640"/>
            <a:chExt cx="2088000" cy="552960"/>
          </a:xfrm>
        </p:grpSpPr>
        <p:sp>
          <p:nvSpPr>
            <p:cNvPr id="244" name="Text Box 13"/>
            <p:cNvSpPr/>
            <p:nvPr/>
          </p:nvSpPr>
          <p:spPr>
            <a:xfrm>
              <a:off x="7128000" y="429264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мера разрядов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7145280" y="45082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ты числ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>
              <a:off x="7056000" y="4437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6"/>
            <p:cNvSpPr/>
            <p:nvPr/>
          </p:nvSpPr>
          <p:spPr>
            <a:xfrm flipH="1">
              <a:off x="7056000" y="4652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7"/>
          <p:cNvGrpSpPr/>
          <p:nvPr/>
        </p:nvGrpSpPr>
        <p:grpSpPr>
          <a:xfrm>
            <a:off x="7056000" y="5589720"/>
            <a:ext cx="2088000" cy="552960"/>
            <a:chOff x="7056000" y="5589720"/>
            <a:chExt cx="2088000" cy="552960"/>
          </a:xfrm>
        </p:grpSpPr>
        <p:sp>
          <p:nvSpPr>
            <p:cNvPr id="249" name="Text Box 18"/>
            <p:cNvSpPr/>
            <p:nvPr/>
          </p:nvSpPr>
          <p:spPr>
            <a:xfrm>
              <a:off x="7128000" y="5589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мера разрядов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9"/>
            <p:cNvSpPr/>
            <p:nvPr/>
          </p:nvSpPr>
          <p:spPr>
            <a:xfrm>
              <a:off x="7145280" y="580536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ты числ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 flipH="1">
              <a:off x="7056000" y="57340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 flipH="1">
              <a:off x="7056000" y="59497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22" descr=""/>
          <p:cNvPicPr/>
          <p:nvPr/>
        </p:nvPicPr>
        <p:blipFill>
          <a:blip r:embed="rId3"/>
          <a:stretch/>
        </p:blipFill>
        <p:spPr>
          <a:xfrm>
            <a:off x="2050920" y="5589720"/>
            <a:ext cx="5040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537B-1EE8-4F8E-83EA-23A0E1878D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е числа со знаком так же обычно занимают в памяти компьютера один, два или четыре бай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левый (старший) разряд содержит информацию о знаке числа (ноль соответствует плюсу, единица - минус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особенности записи целых чисел со знаком на примере однобайтового формата, при котором для знака отводится один разряд, а для цифр абсолютной величины - семь раз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655-6A7E-43D1-9A2B-776FC947B0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включа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тносящиеся к обработке информации в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ычислительных маш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и </a:t>
            </a:r>
            <a:r>
              <a:rPr b="0" i="1" lang="ru-RU" sz="2800" spc="-1" strike="noStrike">
                <a:solidFill>
                  <a:srgbClr val="0000e5"/>
                </a:solidFill>
                <a:latin typeface="Arial"/>
              </a:rPr>
              <a:t>вычислительных сет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тные, вроде анализа алгоритмов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зыков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токолов передачи да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е две формы применяются особенно широко, так как позволяют упростить конструкцию арифметико-логического устройства компьютера путем замены разнообразных арифметических операций операцией с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4854-3785-4594-9227-5804394A13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числа в прямом, коде изображаются двоичными цифрами с цифрой 0 в знаковом разря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900000" y="4437000"/>
            <a:ext cx="71708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5CD-E5B5-4FC8-8267-B899720199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ицательные числа в прямом коде имеют следующее изображе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ямой код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знаковый разряд помещается цифра 1, а в разряды цифровой части числа — двоичный код его абсолютной величи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605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418-8B62-442A-950B-B680FFA198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числа в прямом, обратном и дополнительном кода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ображаются одинаков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ыми цифрами с цифрой 0 в знаковом разря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71704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861-9317-4850-839A-453DFA5702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ицательные числа в прямом коде имеют следующее изображе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ямой код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знаковый разряд помещается цифра 1, а в разряды цифровой части числа — двоичный код его абсолютной величи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605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учается инвертированием всех цифр двоичного кода абсолютной величины числа, включая разряд знака: нули заменяются единицами, а единицы — ну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82803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учается образованием обратного кода с последующим прибавлением единицы к его младшему разря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82818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ифметические действия над целыми числами в ЭВ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55564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компьютеров операция вычитания не используется. Вместо нее производится сложение обратных или дополнительных кодов уменьшаемого и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жение обратных к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положительное, B отрицательное и по абсолютной величине больше, чем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49720" y="364500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 зап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Двоичные ко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93840" y="5589720"/>
            <a:ext cx="8588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 правильный результат в обратном код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в прямой код биты цифровой части результата инвертируютс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000111 = -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4946400" cy="1036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5796000" y="45086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 числа -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796000" y="48690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 числа -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6CBE-B9B7-483E-8BEC-2A45C6B45F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тельные числа в математике представляются конечными или бесконечными дробями, т.е. точность представления чисел не ограничена.  Однако в компьютерах числа хранятся ячейках памяти с ограниченным количеством разрядов. Следовательно, бесконечные или очень длинные числа усекаются до некоторой длины и в компьютерном представлении выступают как приближенные. (пример – иррациональное число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7C6-F009-45A6-A61D-B1868EA36D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"информатика"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слов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Informatiq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бразован из двух слов: информация и автомат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термин введен во Франции в середине 60-х лет XX ст.. Тогда в англоязычных странах вошел в употребление термин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"Computer Science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обозначения науки о преобразовании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эти термины являются синони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B70-BD28-4284-B8B9-2225C4475B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написании действительных чисел в программах вместо привычной запятой принято ставить точ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отображения действительных чисел, которые могут быть как очень маленькими, так и очень большими, используется форма записи чисел 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ющей точ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, десятичное число 1.25 в этой форме можно представить так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25*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 0.125*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0.0125*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3536-4FF6-432D-BD8B-F86D4C3C16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е число N в системе счисления с основанием q можно записать в вид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= M*q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M — множитель, содержащий все цифры числа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нти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 — целое число, называемо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тельное число записывается в память компьютера в вид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нтиссы и поря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C832-6078-4BFB-81C0-2756CFC286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00012 = 0.12*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=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=-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4,5 = 0.12345*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=1234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=4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C19-0055-404D-BE4E-CBB524EBF2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20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99A6-E100-426B-B8E1-85A9A14A5D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 порядка представляется с избытком, т.е. вместо истинного значения порядка хранится число, называем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ещенным поряд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ещенн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еобходимо к порядку прибавить смещение. Например, при использовании для хранения порядка восьми бит, (значений от –128 до +127) используется смещение 128. Тогда для представления порядка будут использоваться значения от 0 до +255, т.е. только неотрицатель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5D04-8506-4C7F-A46A-BC2591DA6D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899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текста. Представление символов в двоичном код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м кодом наз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кальное беззнаковое целое двоичное числ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ленное в соответствие некоторому симв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кст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формации в компьютере чаще всего используется алфавит мощностью 256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рабские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буквы латинского 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знаки препин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рифмети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пециальные управляющи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буквы и знаки национального 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F1D-5EDB-4C9E-8B00-6A62944710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символ из такого алфавита несет 8 бит информации, следовательно, занимает 1 байт памяти Э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имволы такого алфавита пронумерованы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 до 25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номеру соответствует 8-разрядный двоичный код 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код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рядковым номером симво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F00-AE7A-46F1-9A0F-0CBF443FA5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i="1" lang="ru-RU" sz="2800" spc="-1" strike="noStrike">
                <a:solidFill>
                  <a:srgbClr val="9900cc"/>
                </a:solidFill>
                <a:latin typeface="Arial"/>
              </a:rPr>
              <a:t>символьных данных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ся заданием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довых табл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ому символу ставят в соответствие одно- или двухбайтовый к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этого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дов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 в соответствие кода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виши на клавиатур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чертание символ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кране мони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4538-E0E8-4DCA-AEB3-392CC2F861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зных типов ЭВМ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ерационных сист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уются различные таблицы кодир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отличаются порядком размещения символов алфавита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м стандартом на персональных компьютерах является таблица кодировк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ASC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tandard Code of Information Interchang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й стандартный код информационного обме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8F0-AD7B-4CBF-832E-DA22E83551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ASC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работана институтом стандартизации США в 1981 г. Ее использовали, в частности, программные продукты, работающие под управлением операционной систем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1617-E400-4BB2-BE2E-BD89BCF8D9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 информатик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ук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ля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паратное обеспеч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взаимодействия аппаратного и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взаимодействия человека с аппаратными и программными сред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2DCE-6032-405F-9D9C-5ABC59C82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истем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ы две таблицы кодирования —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азова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9900cc"/>
                </a:solidFill>
                <a:latin typeface="Arial"/>
              </a:rPr>
              <a:t>расшир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а закрепляет значения кодов с номе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0 до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н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носится к символам с номе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28 до 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534-7FEF-4820-99BD-773E147FF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базово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области размещаются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управляющие коды,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например, код клавиши  «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» 13 или 0000110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коды символов английского алфави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наков препинания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рифметических действий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екоторых вспомогательных символов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стальные 128 кодов, начиная со </a:t>
            </a:r>
            <a:r>
              <a:rPr b="0" lang="ru-RU" sz="3100" spc="-1" strike="noStrike">
                <a:solidFill>
                  <a:srgbClr val="9900cc"/>
                </a:solidFill>
                <a:latin typeface="Arial"/>
              </a:rPr>
              <a:t>128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двоичный код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000000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и кончая </a:t>
            </a:r>
            <a:r>
              <a:rPr b="0" lang="ru-RU" sz="3100" spc="-1" strike="noStrike">
                <a:solidFill>
                  <a:srgbClr val="9900cc"/>
                </a:solidFill>
                <a:latin typeface="Arial"/>
              </a:rPr>
              <a:t>255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, используются для кодировки букв </a:t>
            </a:r>
            <a:r>
              <a:rPr b="0" i="1" lang="ru-RU" sz="3100" spc="-1" strike="noStrike">
                <a:solidFill>
                  <a:srgbClr val="c00000"/>
                </a:solidFill>
                <a:latin typeface="Arial"/>
              </a:rPr>
              <a:t>национальных алфавитов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научных симво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E09-AA2F-44D5-B370-31079FF88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обуем с помощью таблицы ASCII представить, как будут выглядеть слова в памяти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01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10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11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01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бывает так, что текст, состоящий из букв русского алфавита, невозможно прочитать - на экране монитора видна какая-то "абракадабра". Это происходит оттого, что на компьютерах применяется разная кодировка символов русского язык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20A1-F014-4010-AEF5-F62A34E97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ие несколько лет с однобайтовыми кодами для символов появились проблемы: необходимость обеспечить языки с письменностью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ероглифами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ка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понский и китай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спользуемых знаков в этих языках даже по минимальным нормам во много раз превышает 25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распространенной кодировкой символов, использующей п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бай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имвол на сегодняшний день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nic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31D5-CBE3-4464-B3BF-157C6B30E9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ства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взаимодействия в информатике принято называть интерфейсом, а средства взаимодействия человека с аппаратными и программными средствами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ом пользоват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F9BB-23F9-4BC9-B079-EDD066B06E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ставная часть информации, они представляют соб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регистрированные сигна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25F8-359E-4B88-8E89-3443F2D958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направления информатики для </a:t>
            </a: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практического применения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рхитектура вычислительных сис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иемы и методы построения систе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интерфейсы вычислительных сист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программ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преобразование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щита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0-27T10:28:48Z</dcterms:modified>
  <cp:revision>146</cp:revision>
  <dc:subject/>
  <dc:title>Слайд 1</dc:title>
</cp:coreProperties>
</file>