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13A6-92DD-4746-ABF1-C2F026A981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891-C853-4147-A11B-B14F1E0E0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03B-A6DE-4C47-B766-1A67B3B28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992-B449-4666-864C-1663E5FC5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0343-490C-44E4-BFB1-1CE1F8010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50BF-5B2A-49CA-A5B6-3CE6D97FD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85E-44A6-431C-9348-56C303856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5A6-17B7-4CCA-98A3-957837647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638-ED2D-4A4B-A362-3EB4746EC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A06-7041-4021-BEEC-4688AE2F5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B4F-AEB3-4019-9B59-F3FE6CCB9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4F4-62F8-435C-9FCA-ABCAB905E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A0A8-7173-4F61-96B7-0C0BA2415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608-D0EE-40B0-8E1A-6642DD6760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41C-B7C1-4E7F-8041-991E40963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6D2-B7AB-47F8-B0E2-651021BE6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9D2-37D1-495F-A834-5E95D4D42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E094-0344-4EA1-9AD6-8E3D172E1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FAC6-738C-496E-9D0E-4DA7742DA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358-B17B-4C9E-8C82-89EFDA8B7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33C-F762-4C08-B03C-8261199E6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03E7-FE63-4F9F-8C62-FB08BA5DE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A245-FA97-4063-8F42-A55D0FA2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BFC4-B67B-4555-BBD5-B0601C11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510E-7B21-4519-9116-DA487152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EF62-80AE-4B2E-B799-5E3B8B08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5CC-EF41-4B73-BF7C-21F41FCF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DB02-0B0F-496C-B416-6362C90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E55-E5BA-423D-A3F2-D8EEEA61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08C-3F42-48FE-B8C4-E8D2872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8F7C-1AA6-4C32-AA59-9B95485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5537-F219-42BA-B1A1-CB3374D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C50E-5E69-4FDB-B401-54EADA1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1395-5046-44C7-AA13-E36A881F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08F2-ACB8-42E7-B954-2F7B022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492-7D9D-4DFF-AB16-9ABB2A8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4500-4B37-46B6-AB5A-D53677E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711-B134-4214-8067-1D22640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1D8A-1C19-4569-9642-2B315D50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4D1E-F400-424B-B63F-859F57C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BEFF-43CC-4FA4-8483-EF6BE9C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0817-F5B0-418E-8550-4614926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75AC-A303-458D-BADD-62601747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44A2-96D1-4C60-BC92-70A396B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B4AF-475C-4156-B5A4-2EA0D02E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CBA1-1497-40B8-93D2-4B41ED6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620-FBC3-4CE0-972B-373B1E6C66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46A-C2B3-4C70-9C60-4941923330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69;&#1085;&#1077;&#1088;&#1075;&#1086;&#1079;&#1072;&#1074;&#1080;&#1089;&#1080;&#1084;&#1072;&#1103;_&#1087;&#1072;&#1084;&#1103;&#1090;&#1100;" TargetMode="External"/><Relationship Id="rId3" Type="http://schemas.openxmlformats.org/officeDocument/2006/relationships/hyperlink" Target="http://ru.wikipedia.org/wiki/&#1050;&#1086;&#1084;&#1087;&#1100;&#1102;&#1090;&#1077;&#1088;&#1085;&#1072;&#1103;_&#1087;&#1072;&#1084;&#1103;&#1090;&#1100;" TargetMode="External"/><Relationship Id="rId4" Type="http://schemas.openxmlformats.org/officeDocument/2006/relationships/hyperlink" Target="http://ru.wikipedia.org/wiki/&#1055;&#1088;&#1086;&#1094;&#1077;&#1089;&#1089;&#1086;&#1088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25D-F20D-4EBE-982C-3696820FFD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Внутренняя память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теринская пла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6021360"/>
            <a:ext cx="29527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М 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812000" y="6553080"/>
            <a:ext cx="133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FED-B932-4827-B8A0-439DFE6111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Постоянная память 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 Постоянная память ROM (Read Only Memory - ПЗ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омент включения компьютера в его оперативной памяти отсутствуют любые данные, поскольку оперативная память не может сохранять данные при отключенном компьюте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процессору необходимы команды, в том числе и сразу после включения. Поэтому процессор обращается п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циальному стартовому адрес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й ему всегда известен, за своей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рвой команд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т адрес указывает на память, которую принято называть постоянной памятью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янным запоминающим устройство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ПЗ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9D3-C207-4667-8541-967A520B9D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Постоянная память 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а ПЗУ способна продолжительное время сохранять информацию, даже при отключенном компьют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ят, что программы, которые находятся в ПЗУ, "зашиты" в ней - они записываются туда на этапе изготовления микросх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существую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программируемые ПЗ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П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ЗУ позволяют перепрограммировать их многокра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программ, находящийся в ПЗУ образовыв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азовую систему ввода/вы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Basic Input Output Syst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значение этих программ состоит в том, чтобы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оверить состав и трудоспособ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и обеспечи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заимодействие с внешними устр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64A-6F3F-4761-8D1A-54BEF55853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не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Для своей работы программы BIOS требуют всю информацию о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кущей конфигурации систем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о очевидной причине эту информацию нельзя сохранять ни в оперативной памяти, ни в постоянной. Специально для этих целей на материнской плате есть микросхема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энергонезависимой памяти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, которая называется </a:t>
            </a:r>
            <a:r>
              <a:rPr b="1" lang="ru-RU" sz="33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1FC-2022-4C9A-9A22-511A587744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не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92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онезависимая память </a:t>
            </a:r>
            <a:r>
              <a:rPr b="1" lang="ru-RU" sz="28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оперативной памяти отличается тем, что ее содержим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исчезает при отключен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можно заносить в </a:t>
            </a:r>
            <a:r>
              <a:rPr b="1" lang="ru-RU" sz="28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зменя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оответствии с тем, какое оборудование входит в состав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схема памяти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оянно питается от небольшой батарейки, расположенной на материнской пла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B39-C0B8-46F8-8575-D58E3B3B95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факт, что компьютер четко отслежив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у и врем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же связан с тем, что эта информация постоянно хранится (и обновляется) в памяти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C64-FF78-495D-B27B-D16AD3C59E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платой ПК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́нская пла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Mother Boar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ери́нская пла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сложная многослойная печатная плата к которой подключаются остальные компоненты компьюте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им электропитание и данные поступ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монтированным на пла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схем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слот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ые вставляются остальные устройства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365-D717-46A5-BAFB-1B658F0AA1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й расположе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пс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икропроцессорный комплект) -от англ. "chip set" - набор микросхем, спроектированных для совместной работы с целью выполнения каких-либо фун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17360" y="2060640"/>
            <a:ext cx="3795840" cy="410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File:MSI K7T266 motherboard.jpg"/>
          <p:cNvPicPr/>
          <p:nvPr/>
        </p:nvPicPr>
        <p:blipFill>
          <a:blip r:embed="rId2"/>
          <a:stretch/>
        </p:blipFill>
        <p:spPr>
          <a:xfrm>
            <a:off x="117360" y="1795320"/>
            <a:ext cx="4454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1DE-59E3-4F13-AB9A-5A86DCF2AE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система, которая передает данные между функциональными блоками компьютер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ногоразрядный канал передачи информации от одного устройства компьютера к другом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ЗУ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оянное запоминающее устро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ЗУ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ъ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подсоединения дополнительных устройств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CFE-01CB-4A0C-BD1D-8E82CCDFFC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ринск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3374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2DD-3D74-45E9-87C9-D4B059E045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bc"/>
                </a:solidFill>
                <a:latin typeface="Arial"/>
              </a:rPr>
              <a:t>Внутренние шины передачи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ntegrated Drive Electron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параллельный интерфейс подключения накопителей (жёстких дисков и оптических приводов) к компьютеру. Позднее стал именоваться ATA, затем P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ность шин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шина характеризуется шириной – числом параллельных проводников для передачи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7F3-3447-4E9E-99C4-AF4FD9267E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й память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ют все виды запоминающих устройств, расположенные на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атеринской пла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относ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еративная памя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оянная памя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нергонезависимая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эш память 3-го уровн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нах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72C0-1DCB-4543-A7AB-21025AB0B1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CI-X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льтиплексированная (адрес и данные передаются по одним и тем же линиям)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 себя все линии, которые обеспечивают работу общей ш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1527-D0AD-46BF-8461-730C57AD13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 широко используется ши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CI Express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она была нацелена на использование только в ка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ой ши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ковая производительность шины PCI Express 3.0  д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 ГБит/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CI Express 4.0  до 32 ГБи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-фак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CI Expres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ила  шины других моделей в персональных компьюте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2CD-9AF4-4870-B5EF-8A8726CB8B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универсальна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ина, предназначенная для подключения периферийных устройств. Шина USB представляет собой последовательный интерфейс передачи данных для среднескоростных и низкоскоростных периферийных устр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ельность шины USB 3.0 повышает максимальную скорость передачи информации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ит/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875-60AE-4FA5-A66B-51696F9532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и́вная памя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RA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амять с произвольным доступом) —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энергозависи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асть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компьютерной памя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й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рем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ранятся данные и команды, необходимые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роцессо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выполнения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З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техническое устройство, в котором установлена оперативная памя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D92-C93D-4359-8903-C74EAECC83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мять RAM - это массив кристаллических ячеек, способных сохранять данны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уется для оперативного обмена информацией   (командами и данными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жду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процессор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внешней памятью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600" spc="-1" strike="noStrike">
                <a:solidFill>
                  <a:srgbClr val="cc0099"/>
                </a:solidFill>
                <a:latin typeface="Arial"/>
              </a:rPr>
              <a:t>периферийными систе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нее процессор получает программы и данные для обработки, в нее записываются полученные результ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"оперативная"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сходит оттого, что она работает очень быстро и процессору не нужно ждать при считывании данных из памяти или при запис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ные 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З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яются  лишь временно при включенном компьютере, при выключении они исчезаю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628E-4EBC-4B02-9DA8-A686EF3C8A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физическому принципу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намическую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тическую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S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кономичный вид памяти. Ячейки динамической памяти можно представить в виде микроконденсаторов, способных накапливать электрический за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и DRAM: медленнее происходит запись и чтение данных, требует постоянной подзаря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стота реализации и низкая сто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ческа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чейки статической памяти состоят из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тригг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6DC4-8CCA-4588-8F2E-33AFC674BC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087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иггере сохраняется не заряд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енный/выключенны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и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S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начитель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е быстро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чески более сложный процесс изготовления, и соответственн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то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ы динамической памяти использую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микросхемы статической - дл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эш-памя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741760" y="5084640"/>
            <a:ext cx="1774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99A-2F89-400E-A161-AF81AC2172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971640" y="907920"/>
            <a:ext cx="633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-нанометровая технология Intel® обеспечивает меньшие размеры микросхем по сравнению с 22-нанометровой технологией. Каналы транзистора стали выше, тоньше и расположены ближе для повышения плотности и снижения емкостного сопротивления. Улучшенным транзисторам требуется меньше каналов для еще большего повышения плотности, а размер ячейки SRAM практически вдвое меньше по сравнению с ячейками, используемыми в 22-нанометровой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C58-16A7-47DB-9CEF-2F98289A50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и оперативной памяти вставляют в соответствующие разъемы на материнской пл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характеристики моду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амя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дост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частота (до 800 МГц в  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одули  имеют объем - 512, 1024, 2048Мб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емя доступ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азывает, сколько времени необходимо для обращения к ячейкам памяти, чем меньше, тем лучше. Измеряется в наносекун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одуля – 3.5 -10 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D6A5-ECBC-4693-9AEA-C722A00E4F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0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ерами по объёму производства готовых модулей DIMM DRAM являю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un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мериканская компания Kingston Technology. Samsung занимает 42.0% рынка производства микро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и типа DIMM представляют собой длинные прямоугольные платы с микросхемами памяти на н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19280" y="4365720"/>
            <a:ext cx="5997600" cy="1541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RAM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User</cp:lastModifiedBy>
  <dcterms:modified xsi:type="dcterms:W3CDTF">2021-12-14T05:57:42Z</dcterms:modified>
  <cp:revision>950</cp:revision>
  <dc:subject/>
  <dc:title>Слайд 1</dc:title>
</cp:coreProperties>
</file>