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905-3E99-4074-8B7B-FCFD5657AE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BB21-521A-482D-A495-EE103EE3B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22F-420A-420F-8988-F93E71D9E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E4E4-704C-4A59-B515-83FF6F5FE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C134-ED85-4C96-979D-059FCA1E4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919-5112-4008-AE24-630B23B5A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7CA0-E1B7-41EE-967E-C42677AC7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4F73-638A-4233-B7A3-64B66DA2D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0751-2DA7-414D-B2D3-AE6F7784B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D49-8A4B-4296-932D-F8DF83547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F951-7841-4CED-9FE4-B2D5A8444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814-FBD8-4DD2-A87F-B1EBB2242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7C82-F04C-4E74-B6E2-4D9DB9712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B3A-A7CD-4F41-A5E1-DBC5E4EF3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AD9-1671-4EB3-A778-5B7180496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6EE-CE53-43B6-88EA-B609F58D0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EAD-AACB-47E5-8E83-40B49F179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E213-D587-4F0C-BDA8-D68CA48FA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DF0-4F4C-4F49-828F-9D63EFE56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0A1-8DD1-48CE-848C-76FDC1FB6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1CB-AD3E-40FC-8A80-AD9FFDD5E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3DD-D28D-4D09-BA3D-2AF412036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659-F3D8-42E4-8C66-107B23ADF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69A1-3B9B-4FDB-9575-F26BB2EED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044-5B6E-457E-BDDA-75C609D76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31A1-B89F-4344-AE3D-00C7E1609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C37-104A-421A-9E8C-B6927C9D2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D8E6-8DC0-460E-8BA3-830BCAA3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FEC4-3741-4911-80A4-A06732EA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72AD-7CB0-46FB-B392-7AF793F6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7686-3BE7-46B0-8E5B-71C70E94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352-8A48-4410-984A-305B2708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653-CD30-4547-BBD7-BAAC434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0E2-E95E-4631-8F2C-5C8B675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D762-CEE8-4509-8387-F6FC4D9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8156-7B93-4D2B-8CF5-8128FF28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4D0A-0DE7-42F8-9FD7-6AFB701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EEA-6828-4759-A582-AC210F37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963A-1E46-4306-8AD2-5DEAE858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3AF3-779A-485A-94C9-F84A6E5E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A379-99B5-4F64-B7E3-684E2A4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298-197C-4732-B7BD-DCAAB5F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2BA2-C0CB-45DE-87D2-7BD5F8CE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2BF0-0164-4468-96B3-AF0AD48D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B4D6-54D6-4931-8A26-682FDF5A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68E4-B37C-4884-9EB3-F40DD1E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E204-9B15-490D-A87D-EAE676AB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9FA5-6EDC-4719-97E1-EA7B2519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6745-0134-4F74-960F-C1E36BC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0C96-0E8D-480E-AA76-7C178A1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2EB2-9D12-4546-A9AA-916F540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37B-EF43-45FF-A584-C4AE5D4049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818-D0A7-4300-BD98-F3AE6CC805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Windows_Server_2008_R2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5;&#1086;&#1075;&#1086;&#1079;&#1072;&#1076;&#1072;&#1095;&#1085;&#1086;&#1089;&#1090;&#1100;" TargetMode="External"/><Relationship Id="rId2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2" Type="http://schemas.openxmlformats.org/officeDocument/2006/relationships/hyperlink" Target="http://ru.wikipedia.org/wiki/Windows_NT" TargetMode="External"/><Relationship Id="rId3" Type="http://schemas.openxmlformats.org/officeDocument/2006/relationships/hyperlink" Target="http://ru.wikipedia.org/wiki/Windows_Vista" TargetMode="External"/><Relationship Id="rId4" Type="http://schemas.openxmlformats.org/officeDocument/2006/relationships/hyperlink" Target="http://ru.wikipedia.org/wiki/Windows_Vis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Microsoft_Internet_Explorer" TargetMode="External"/><Relationship Id="rId2" Type="http://schemas.openxmlformats.org/officeDocument/2006/relationships/hyperlink" Target="http://ru.wikipedia.org/wiki/Microsoft_Outlook_Express" TargetMode="External"/><Relationship Id="rId3" Type="http://schemas.openxmlformats.org/officeDocument/2006/relationships/hyperlink" Target="http://ru.wikipedia.org/wiki/Microsoft_Windows_Media_Player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75;&#1088;&#1072;&#1084;&#1084;&#1085;&#1086;&#1077;_&#1086;&#1073;&#1077;&#1089;&#1087;&#1077;&#1095;&#1077;&#1085;&#1080;&#1077;" TargetMode="External"/><Relationship Id="rId2" Type="http://schemas.openxmlformats.org/officeDocument/2006/relationships/hyperlink" Target="http://ru.wikipedia.org/wiki/Microsoft" TargetMode="External"/><Relationship Id="rId3" Type="http://schemas.openxmlformats.org/officeDocument/2006/relationships/hyperlink" Target="http://ru.wikipedia.org/wiki/Microsoft_Office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0;&#1086;&#1084;&#1087;&#1100;&#1102;&#1090;&#1077;&#1088;&#1085;&#1072;&#1103;_&#1087;&#1088;&#1086;&#1075;&#1088;&#1072;&#1084;&#1084;&#1072;" TargetMode="External"/><Relationship Id="rId3" Type="http://schemas.openxmlformats.org/officeDocument/2006/relationships/hyperlink" Target="http://ru.wikipedia.org/wiki/&#1050;&#1086;&#1084;&#1087;&#1100;&#1102;&#1090;&#1077;&#1088;" TargetMode="External"/><Relationship Id="rId4" Type="http://schemas.openxmlformats.org/officeDocument/2006/relationships/hyperlink" Target="http://ru.wikipedia.org/wiki/&#1060;&#1072;&#1081;&#1083;" TargetMode="External"/><Relationship Id="rId5" Type="http://schemas.openxmlformats.org/officeDocument/2006/relationships/hyperlink" Target="http://ru.wikipedia.org/wiki/&#1055;&#1088;&#1080;&#1082;&#1083;&#1072;&#1076;&#1085;&#1086;&#1077;_&#1087;&#1088;&#1086;&#1075;&#1088;&#1072;&#1084;&#1084;&#1085;&#1086;&#1077;_&#1086;&#1073;&#1077;&#1089;&#1087;&#1077;&#1095;&#1077;&#1085;&#1080;&#1077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9;&#1077;&#1074;&#1076;&#1086;&#1087;&#1072;&#1088;&#1072;&#1083;&#1083;&#1077;&#1083;&#1100;&#1085;&#1086;&#1077;_&#1074;&#1099;&#1087;&#1086;&#1083;&#1085;&#1077;&#1085;&#1080;&#1077;_&#1079;&#1072;&#1076;&#1072;&#1095;&amp;action=edit&amp;redlink=1" TargetMode="External"/><Relationship Id="rId2" Type="http://schemas.openxmlformats.org/officeDocument/2006/relationships/hyperlink" Target="http://ru.wikipedia.org/wiki/&#1052;&#1085;&#1086;&#1075;&#1086;&#1079;&#1072;&#1076;&#1072;&#1095;&#1085;&#1086;&#1089;&#1090;&#110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A4E6-1056-4F4B-80BE-2E1DDF50F8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ограммное обеспечение компьютер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6021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Информатик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12000" y="6553080"/>
            <a:ext cx="13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9-20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3F3-A558-4689-A997-D6EDBC13E5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днопользовательские многозадач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е обеспечивают одному пользователю параллельную обработку нескольких задач. Например, к одному компьютеру можно подключить несколько принтеров, каждый из которых будет работать на "свою" задач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 WINDOW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версии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ногопользовательские многозадач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озволяющие на одном компьютере запускать несколько задач нескольким пользователям. Эти ОС очень сложны и требуют значительных машинных ресур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1" lang="en-US" sz="2200" spc="-1" strike="noStrike">
                <a:solidFill>
                  <a:srgbClr val="0000bc"/>
                </a:solidFill>
                <a:latin typeface="Arial"/>
              </a:rPr>
              <a:t>MS WINDOWS X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S WINDOWS 7, 8,10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99"/>
                </a:solidFill>
                <a:latin typeface="Arial"/>
              </a:rPr>
              <a:t>UNIX, Linu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283-D698-41F1-8170-A22C98F025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м уровне находя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вер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рверы представляют собой очень мощ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многопроцессорные) компьютер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роизводительностью до 100 млн. операц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ОС одновременно обслуживают множество пользователей и позволяют им делить между собой программно-аппаратные ресурсы. У Internet-провайдеров обычно работают несколько серверов для того, чтобы поддерживать одновременный доступ к сети множества клиентов. На серверах хранятся стран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айтов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батываются за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indows Server 2008 R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s Serve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9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типичными серверными ОС. Теперь для этой цели стала использоваться и операционная 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237D-42FC-49B1-8841-2E3B0F0679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ую категорию составля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 для персональных компьютер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х работа заключается в предоставлении удобного интерфейса для одного пользователя. Основными ОС в этой категории являю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P, 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пределенные версии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FB6-9D53-42AB-8762-0DFF930D8D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40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т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ю́н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группа переносимых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ногозадач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гопользовательских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перацио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клон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называетс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ычной особенностью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является ее бизнес-модель: это свободно распространяющееся программное обеспечение. Ее можно скачать с различных Internet-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йтов, например www.kernel.org. Система Linux поставляется вместе с лицензией разработанной Ричардом Столманом, основателем Фонда бесплатно распространяемых програм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D95-9381-4091-BA0A-E66C572DF2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ОС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назначена для опытных программистов. Это мощная и гибкая система. Она характеризуется небольшим количеством базовых элементов, которые можно комбинировать бесконечным числом способов, чтобы приспособить их для конкретного приложения. Одно из основных правил системы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заключается в том, что каждая программа должна выполнять всего одну функцию, но делать это хорошо. В системе устранена бесполезная избыточнос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UNIX доминирует на серверах, но она также используется и в ноутбуках и суперкомпьютерах. Система UNIX демонстрирует множество важных принципов построения ОС, многие из которых были позаимствованы другими операционными систем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D62-D49C-4E33-8116-91F9891016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графические интерфейсы очень удобны, но они обладают недостаточной гибкостью и не дают представление о том, как работает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которых версиях системы, интерфейс пользователя с командной строкой был заменен графическим интерфейсом, ориентированным на использование мыши, для чего не потребовалось никаких изменений в сам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763-E35D-4830-8C92-CB5CC5BB19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ин вид ОС – э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ы реального врем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параметром таких систем является время. Например, в системах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управления производ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ы, работающие в режиме реального времени, собирают данные о текущем промышленном процессе и используют их для управления оборудованием. Такие процессы должны удовлетворять жестким временным требованиям. Если, по конвейеру передвигается автомобиль, то каждое действие должно быть осуществлено в строго определенный момент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D21-039E-4BBA-AEDC-797B405F1C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евое понятие ОС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роцессом называют программу в момент ее выполнения. С каждым процессом связывается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ное простра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писок адресов в памяти от некоторого минимума до некоторого максимума. По этим адресам процесс может занести информацию и прочесть ее. Адресное пространство содержит саму программу и данные к 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3FC-3961-48A9-B2D4-DDEAE531B9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ногозадачной системе процессор переключается между программами, предоставляя каждой от десятков до сотен миллисекун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 каждый конкретный момент времени процессор занят только одной программой, но за секунду он успевает поработать с несколькими программами, создавая у пользователей иллюзию параллельной работы со всеми программами, разделяющих общую память между соб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B0B1-A5B7-43CA-9D5F-921388F863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огда вы запускаете текстовый процессор или программу калькулятора, вы создаете новый проце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ак правило, процесс завершается по мере выполнения своей работы. В текстовых редакторах браузерах и других программах такого типа есть кнопка или пункт меню, с помощью которых  можно завершить проце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905-9C1D-4C1A-9AC9-141B4DA572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Под программным обеспечением (Software) понимается совокупность программ, выполняемых вычислительной системой</a:t>
            </a:r>
            <a:r>
              <a:rPr b="1" i="1" lang="en-US" sz="2800" spc="-1" strike="noStrike">
                <a:solidFill>
                  <a:srgbClr val="0000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605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CFA6-9049-4877-AB4D-88B5E93BC0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о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hread» переводится как «нить», «поток», «облегченный процесс», «минизадача»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роцесса операционная система создает один главный </a:t>
            </a: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ото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й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оком выполняющихся по очереди команд центрального процессо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еобходимости главный поток может создавать другие потоки, пользуясь для этого программным интерфейсом операцио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токи, созданные процессом, выполняются в адресном пространстве этого процесса и имеют доступ к ресурсам процесса. Однако поток одного процесса не имеет никакого доступа к ресурсам потока другого процесса, так как они работают в разных адресных пространств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се потоки в процессе будут ликвидированы, процесс прекратит свое сущ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761-22E9-430B-8C5F-5F8C84F73C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центральная часть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перационной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о находится в оперативной памяти; управляет всей операционной систем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4F57-E8B2-424D-9121-30201B94B6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3800"/>
            </a:b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MS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90-х годов во всем мире огромную популярность приобрела графическая оболоч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MS-Windows 3.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облегчала использование компьютера, и её графический интерфейс вместо набора сложных команд с клавиатуры позволя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 их мышью из меню практически мгно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компьютеров в мире работают под управлением той или иной версии операционной среды Windows фирмы Microso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ем наиболее распространенные ве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300-1DA8-4BA9-8BB5-B381166E46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4200" spc="-1" strike="noStrike">
                <a:solidFill>
                  <a:srgbClr val="00007d"/>
                </a:solidFill>
                <a:latin typeface="Arial"/>
              </a:rPr>
              <a:t> Windows X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ая операционная система, специально разработанная компанией Microsoft так, чтобы она соответствовала требованиям как личных, так и корпоративных пользо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ое переключение 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нескольким пользователям иметь доступ к одному и тому же компьютеру без нарушения индивидуальных настроек, программ и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даленная поддерж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вам контролировать клавиатуру и следить за экраном монитора своего компьютера через любой компьютер с Windows 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47A-550F-4FB0-89DD-D9951E018C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пер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мейства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indows 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ледующая за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indows Vi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 поступила в продажу 22 октября 2009 г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через три года после выпуска предыдущей операционной системы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ndows Vi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E33-AA9E-4AD3-80E7-8B6513CBC2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dows 7 имеет шесть реда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ar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ля продажи, обычно предустановлена на нетбу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баз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ome Basic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расширен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ome Prem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оратив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nterpr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ля продажи частным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l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6B1C-1B1E-4B86-B4A5-690FB069FD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</a:t>
            </a: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извана стать единой для разных устройств, таких как персональные компьютеры, планшеты, смартфоны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а единая платформа разработки и единый магази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версальных прилож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вместимых со всеми поддерживаемыми устрой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я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честве усл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ыпуском обновлений на протяжении всего цикла поддержки. В течение первого года после выхода системы пользователи могут бесплатно обновиться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стройствах под управлением легальных Windows 7, Windows 8.1 и Windows Phone 8.1. Среди значимых нововведений — голосовая помощница Кортана, возможность создания и переключения нескольких рабочих сто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EDA-10EE-455D-8AA1-A8A41DC609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</a:t>
            </a: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ензионное согла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компании Microsoft собирать многочисленны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ведения о пользовате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торию его интернет-деятельности, пароли к сайтам и точкам доступа, данные, набираемые на клавиатуре и многое друг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EA01-7442-4DCB-9365-1B1701D3CB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bc"/>
                </a:solidFill>
                <a:latin typeface="Arial"/>
              </a:rPr>
              <a:t>тандартные при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964720" cy="431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Microsoft Windows включает в себя стандартные приложения, такие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браузе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Internet Explor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почтовый клиен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utlook Expres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проигрывател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indows Media Play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продукты позиционируются как бесплатные и могут быть свободно скачаны с официального сайта Microsoft, однако для установки некоторых из них необходимо иметь действующую лицензию Microsoft Wind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2F09-52C9-41A5-A68A-1D83B6B8B2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bc"/>
                </a:solidFill>
                <a:latin typeface="Arial"/>
              </a:rPr>
              <a:t>тандартные при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3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факта включения стандартных продуктов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 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горается много споров и дискуссий, поскольку это создает серьёзное препятствие для распространения конкурирующи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рте 2004 года Европейская антимонопольная комиссия оштрафовала Майкрософт и обязала создать для продажи в Европе версию Windows без </a:t>
            </a:r>
            <a:r>
              <a:rPr b="0" i="1" lang="ru-RU" sz="2400" spc="-1" strike="noStrike">
                <a:solidFill>
                  <a:srgbClr val="0000bc"/>
                </a:solidFill>
                <a:latin typeface="Arial"/>
              </a:rPr>
              <a:t>Windows Media Player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а компания Майкрософт продолжает отстаивать своё право включать свои продукты в пакет Windows и разрабатывает новые интегрированн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30E-456E-433C-A8E9-2E199A6432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ограммы, работающие на компьютере, можно условно разделить на три категор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иклад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посредственно обеспечивающие выполнение необходим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ьзоват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полняющие различ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ресурсами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пий используем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работоспособности устройств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ча справочной информации о компьютере и д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инструментальные программные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легчающие процесс создания новых программ для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ABC, Visual Basic,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907-92B9-4FC6-8A19-EF9040427F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Преемственность программ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964720" cy="431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тная совмести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тельно к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рограммному обеспе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значает способность более поздних версий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ть с файлами, созданными более ранней версией этой же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например,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сутствует поддержка целого ряда форматов, которые на данный момент почти не используются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8FE9-C690-4599-A58C-B0AB82EF33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Драйверы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Драйвер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программа, с помощью которой операционная система получает доступ к аппаратному обеспечению стандарт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случае для использования каждого устройства, подключённого к компьютеру, необходим специальный драйвер. Обычно с операционными системами поставляются драйверы для ключевых компонентов внешних устройств, без которых система не сможет рабо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ля более специфических устройств (таких, как видеоадаптер или принтер) могут потребоваться специальные драйверы, обычно предоставляемые производителем устр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6D5-A662-4007-8A8B-D1F9CF29FC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Драйверы устройст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йвер устройства выполняет несколько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Обработку чтения и записи независимого от вида устройств и расположенного над ними программного обеспе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нициализацию 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правление энергопотреблением устройства и регистрацией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верку входных параметров. Если они не удовлетворяют определенным критериям, драйвер возвращает ошиб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роверку использования устройства в данный момент. Если устройство занято, запрос может быть поставлен в очередь. Если устройство свободно, проверяется состояние устройства. Возможно, требуется включить устройство или запустить двигатель, прежде чем начнется перенос данных. Как только устройство готово, может начинаться собственно управление устройством.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07E0-B733-4E4E-AF42-3A81BFE222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Служебно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ыми классами системных программ являются программы вспомогательного назначения — </a:t>
            </a: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утилиты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Они либо расширяют и дополняют соответствующие возможности операционной системы, либо решают самостоятельные важные задач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ратко опишем некоторые разновидности </a:t>
            </a:r>
            <a:r>
              <a:rPr b="1" i="1" lang="ru-RU" sz="2300" spc="-1" strike="noStrike">
                <a:solidFill>
                  <a:srgbClr val="00007d"/>
                </a:solidFill>
                <a:latin typeface="Arial"/>
              </a:rPr>
              <a:t>утилит: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программы контрол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тестирования и диагностики состояния компьютера, которые используются для проверки устройств компьютера и для обнаружения неисправностей; указывают причину и место неисправ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программы-упаковщ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(например, архиваторы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Zip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, которые позволяют записывать информацию на дисках более плотно, а также объединять копии нескольких файлов в один архивный файл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E071-7F6F-4339-A64F-150E65D73F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Служебное программы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Утили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антивирус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назначенные для предотвращения заражения компьютерными вирусами и ликвидации последствий заражения виру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оптимизации и контроля качества дискового простран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восстановления информации, защит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для записи компакт-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– конвертеры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тируют файлы из одного формата в другой – однотипный,</a:t>
            </a: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PDF7.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DF конвер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создавать PDF файлы из документов формата Microsoft Excel, Word или PowerPoint, а также из электронной почты и ваших любимых веб сайт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1103-5809-4B62-B705-3F7EB7224C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зора программ-архиваторов (упаковщико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оня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жат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79280" y="234576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рхивировании и передаче по каналам связи основным параметром является объем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этому модели представления дополняются процедурами сжатия, т.е. плотной упаковкой информаци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и применяется два типа алгоритмов сжатия: сжатие 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менением структуры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но происходит без потери данных) и сжат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частичной потерей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E52-DBA1-43FF-9975-26F287A0C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 второго типа полностью восстановить оригинал не позволяют и, потому применяются для хранения графики или зв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екстов, чисел или программ они неприме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архиваторы используют в какой-либо модификации эти два метода кодирования информации. Самым популярным архиватором явля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ъясняется это тем, что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ется мировым стандартом архивирования и имеет самую длительную историю развития. Большинство архивов в Internet также имеют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A1F-BD5B-4F16-8E98-92A20F257A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изнанный лидер среди программ-архиваторов по удобству и массовости применения, поддерживающий в настоящее время самый большой набор языков, включая русский. При этом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ольшинстве случаев обеспечивает значительно лучшее сжатие, ч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ащен несколькими очень важными функциями, отсутствующими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, позволяет восстановить физически поврежденный файл, и функцию блокировки архивов для предотвращения случайной модификации особенно ценных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исло его основных особенностей входят: полная поддержка архив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аличие графической оболочки; создание самораспаковывающихс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архив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F45-F9F6-4DFC-805E-C330BE7B60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полняются вместе с прикладными и служат для управления ресурсами компьютера — центральным процессором, памятью, вводом-выв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рограммы общего пользования, которые предназначе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ля всех 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 разрабатывается так, чтобы компьютер м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 выполнять приклад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истемному ПО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Операционные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Служебные программы( утил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Драйверы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Антивир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5.    Архивато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B72-5B98-4D4E-AEDA-6680614F9E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различных системных программ особое место заним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базовый комплекс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мпьютерны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еспечивающий управление аппаратными средствами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компьют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боту с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файл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выполн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ужеб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кладны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ключении компьютера операционная система загружается в память раньше остальных программ и затем служит платформой и средой для их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D4AF-627A-4E24-95D8-7E62B5D6E2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ая система обычно хранится во внешней памяти компьютера — на диске. При включении компьютера она считывается с дисковой памяти и размещается в ОЗ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процесс называется загрузкой операцион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951-AC62-45EA-A4FA-F33B9310ED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функции (простейшие) 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зка приложений в оперативную память и их вы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изованный доступ к периферийным устройст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оперативной памя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е операции, поддержка сетевых  протоко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0243-FA6D-4081-9101-B851AA80A0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полнительны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е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выполнение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многозада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самой системы, а также пользовательских данных и программ от злонамеренных действий пользователей или прилож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раничение прав доступа и многопользовательский режи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BF4-8B64-4D08-A52C-F17757BDCF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количества одновременно обрабатываемых задач и числа пользователей, которых могут обслуживать ОС, различают три основных класса операционных сист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нопользовательские однозада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ддерживают одну клавиатуру и могут работать только с одной (в данный момент) задач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ий пример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D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6T10:33:52Z</dcterms:modified>
  <cp:revision>1296</cp:revision>
  <dc:subject/>
  <dc:title>Слайд 1</dc:title>
</cp:coreProperties>
</file>