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27.png" ContentType="image/png"/>
  <Override PartName="/ppt/media/image12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871A-708C-4E26-9DC5-9D210A4521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EEE8-DC88-47A9-95A1-66BCCDD354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D46A-C159-43D6-BE6E-7E6B2E1A5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AF4B-E27B-490A-BF7B-08E780F2FB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68E7-D918-4F7C-AABF-35D835A4D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AA9C-696C-4A81-8AAB-30DAC3A03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2D4B-EAFE-4482-8E80-74517E98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0BE3-05C7-4C90-9607-4C3C6FFE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2BF4-C236-42C9-9006-DBFE15EA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8DDF8-972A-436E-A936-02EC34D3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E8B7C-C624-42A6-A015-A5E61A27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D286F-1A0C-4A83-A9B8-2E99A337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58F8B-91E3-4807-9BCB-D3156B1F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DE013-CFF6-4D15-923A-3C59528E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1B38C-AF22-4773-B0C3-CD4E5E6D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4ACE6-8FC9-4B22-A511-74FA9B02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1BEC8-091B-4068-B818-65B56059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2880-035F-4EA6-A01C-C8281E55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87C7A-753B-4A66-9B19-8D9FDD5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F8FFE-A937-4656-AFE1-A48C9021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D2FFD-8275-4E4A-82A4-373D0E9E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7B251-A6C5-44E6-B8F3-F2F2026A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44888-98EA-4C00-911B-DD86BAD3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DC5F8-3968-489D-B14B-0E77FA9B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E4E60-3340-4952-9544-9FAADA86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8025B-E1DE-4A25-92A2-11263430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72DBB-695D-4BAF-AE9C-299622DC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4F5B4-986C-4940-9BCC-37A7ABC1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EFF1-F76C-4328-892D-14BBE5F4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2DAE5-A253-4C0D-81EA-0F331524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B1D19-5640-4A2F-8075-51FDD5CE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8151E-59AE-4C91-9BF0-1A4C5724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5206C-C708-4433-975A-1358AA07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22532-C564-4DA6-9748-308C9DA0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DD73D2-4810-4D73-AA42-006706E3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6B8E6-CCBB-4106-B1A9-BE1A46F2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C7E9E-E24B-4CD8-9D7A-860177D5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B6AC-4B15-46CC-B698-2D9BEF21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F254-F871-40E5-84A8-634B9DB2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8922-168C-4CB6-A1FE-F403750D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BD7A8-4F3A-4ACA-B865-05526646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F52D-0272-48D2-B6A2-4E4CD271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ED3A-DF11-43E2-8BF0-387A9FE1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3CBE-5AD3-4FB7-A1B1-8C22BF1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174B-EAB8-4A66-8C33-D70B3FEC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6C84-A662-4902-84D4-82F40252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118A-F79C-4F5D-9CA9-773BE9EB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914B-5F1C-4C0A-8F71-DC4B777F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358C4-3E8A-4C36-B477-9283CD00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EEFF-4AF0-479C-B8F2-AA1B8875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7CD9-7BEE-4026-ACE0-FF292AC3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BDB12-7D3D-49BE-9E85-AE6E0445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F4F5-129D-4449-9FCF-CA739C68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74861-4FFF-43C6-AC9A-FAB35DCF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EE477-6F96-4836-A8B5-45CE325A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76CD-F427-4191-8999-04D9F709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305A-9702-451E-B748-67340900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ADB8-B1EA-4885-9F02-7E370B04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4E02E-0F17-40AD-BBDF-4E5FF51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7580-F7F4-4983-83FE-E99DA56F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E60CE-EB6E-4DB9-9021-8DE7C5AB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11A8-C76C-4CB9-9736-DD3A3EF0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4B54-2C8C-4629-805F-C30F35C9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EC454-E011-4F7F-819F-0833C669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8231C-F06A-4D97-9CE0-85BE833A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F12B0-209F-46E9-A969-442761CC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7D31-F2F9-46EA-8EE0-CCEA1EF9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86947-075B-4B40-9AF7-D84EB45E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A2C5E-D85F-4B6C-B706-AF9B7B6E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174E3-FD70-4483-A016-B6671D8A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74D4E-A7D2-4E03-94E8-5332DDD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7C33A-3E3C-4FB9-A129-3DC58AF3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6BD7-6094-46D6-8D11-7E2AC730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0F604-CD28-4C0B-B3E2-247CB11A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2C7F2-E106-4C4D-8621-D0CC4B63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BF770-D213-4B4D-98C3-8A15789E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FB22-4FDE-4010-B155-79950D1D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5388-A656-4201-9DD8-5151B11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D7B5-6654-4727-A103-294772CE4C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8C3B-4502-4AF7-8B14-DA610A697A6F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03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FFB3-4E22-4165-B5B8-A19D00F334D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6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C6C8-3C8B-4BED-86A3-426801D381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63EE-6C50-4A0C-93F2-AEEDDA8351F0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47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8"/>
            <p:cNvSpPr/>
            <p:nvPr/>
          </p:nvSpPr>
          <p:spPr>
            <a:xfrm flipH="1" flipV="1" rot="18391200">
              <a:off x="85388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DDB6-C0CA-4FAF-BC75-BC8B20C23DA1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2209320"/>
            <a:ext cx="74674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Основные понятия алгебры логики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685800" y="1828800"/>
          <a:ext cx="3200400" cy="2819520"/>
        </p:xfrm>
        <a:graphic>
          <a:graphicData uri="http://schemas.openxmlformats.org/drawingml/2006/table">
            <a:tbl>
              <a:tblPr/>
              <a:tblGrid>
                <a:gridCol w="1066680"/>
                <a:gridCol w="873360"/>
                <a:gridCol w="126036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762" name="Picture 205" descr="http://www.ioso.ru/distant/do/curse/logic/image012.gif"/>
          <p:cNvPicPr/>
          <p:nvPr/>
        </p:nvPicPr>
        <p:blipFill>
          <a:blip r:embed="rId1"/>
          <a:stretch/>
        </p:blipFill>
        <p:spPr>
          <a:xfrm>
            <a:off x="5105520" y="1981080"/>
            <a:ext cx="3047760" cy="243072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3429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аблица истинност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08"/>
          <p:cNvSpPr/>
          <p:nvPr/>
        </p:nvSpPr>
        <p:spPr>
          <a:xfrm>
            <a:off x="4726080" y="760680"/>
            <a:ext cx="380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есечение множеств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09"/>
          <p:cNvSpPr/>
          <p:nvPr/>
        </p:nvSpPr>
        <p:spPr>
          <a:xfrm>
            <a:off x="4495680" y="609480"/>
            <a:ext cx="0" cy="563904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СЛОЖЕНИЕ (ДИЗ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зъюнкци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гическим сло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двух высказыван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новое высказы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истинно, если истинно хотя бы одно из двух высказыва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=A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этом говоря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 ИЛИ 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удент едет в электричке или читает кни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означае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А или 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А OR 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А | 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А V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Oval 2"/>
          <p:cNvSpPr/>
          <p:nvPr/>
        </p:nvSpPr>
        <p:spPr>
          <a:xfrm>
            <a:off x="5003640" y="1916280"/>
            <a:ext cx="648000" cy="43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3"/>
          <p:cNvSpPr/>
          <p:nvPr/>
        </p:nvSpPr>
        <p:spPr>
          <a:xfrm>
            <a:off x="3635280" y="1916280"/>
            <a:ext cx="57636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91520" cy="2611440"/>
          </a:xfrm>
          <a:prstGeom prst="rect">
            <a:avLst/>
          </a:prstGeom>
          <a:noFill/>
          <a:ln w="38160">
            <a:solidFill>
              <a:srgbClr val="00007d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ДИЗЪЮНКЦИЯ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логическое сложение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)</a:t>
            </a:r>
            <a:br>
              <a:rPr sz="4400"/>
            </a:b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х  </a:t>
            </a:r>
            <a:r>
              <a:rPr b="0" lang="ru-RU" sz="3200" spc="-1" strike="noStrike">
                <a:solidFill>
                  <a:srgbClr val="fa3685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у</a:t>
            </a:r>
            <a:br>
              <a:rPr sz="32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(x,y)= x</a:t>
            </a:r>
            <a:r>
              <a:rPr b="0" lang="en-US" sz="2800" spc="-1" strike="noStrike">
                <a:solidFill>
                  <a:srgbClr val="00007d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33">
            <a:hlinkClick r:id="" action="ppaction://hlinkshowjump?jump=previous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10800"/>
                </a:moveTo>
                <a:lnTo>
                  <a:pt x="24482" y="3794"/>
                </a:lnTo>
                <a:lnTo>
                  <a:pt x="24482" y="17806"/>
                </a:lnTo>
                <a:close/>
              </a:path>
            </a:pathLst>
          </a:custGeom>
          <a:solidFill>
            <a:srgbClr val="b7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37"/>
          <p:cNvGrpSpPr/>
          <p:nvPr/>
        </p:nvGrpSpPr>
        <p:grpSpPr>
          <a:xfrm>
            <a:off x="2666880" y="3276720"/>
            <a:ext cx="4114440" cy="2895120"/>
            <a:chOff x="2666880" y="3276720"/>
            <a:chExt cx="4114440" cy="2895120"/>
          </a:xfrm>
        </p:grpSpPr>
        <p:sp>
          <p:nvSpPr>
            <p:cNvPr id="773" name="Rectangle 35"/>
            <p:cNvSpPr/>
            <p:nvPr/>
          </p:nvSpPr>
          <p:spPr>
            <a:xfrm>
              <a:off x="2666880" y="3276720"/>
              <a:ext cx="4114440" cy="2895120"/>
            </a:xfrm>
            <a:prstGeom prst="rect">
              <a:avLst/>
            </a:prstGeom>
            <a:solidFill>
              <a:srgbClr val="b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4" name="Picture 36" descr="0007"/>
            <p:cNvPicPr/>
            <p:nvPr/>
          </p:nvPicPr>
          <p:blipFill>
            <a:blip r:embed="rId1"/>
            <a:stretch/>
          </p:blipFill>
          <p:spPr>
            <a:xfrm>
              <a:off x="3736800" y="3905280"/>
              <a:ext cx="2074320" cy="1234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3581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аблица истинност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0"/>
          <p:cNvSpPr/>
          <p:nvPr/>
        </p:nvSpPr>
        <p:spPr>
          <a:xfrm>
            <a:off x="4667760" y="760680"/>
            <a:ext cx="39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бъединение множеств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31"/>
          <p:cNvSpPr/>
          <p:nvPr/>
        </p:nvSpPr>
        <p:spPr>
          <a:xfrm>
            <a:off x="4495680" y="609480"/>
            <a:ext cx="0" cy="563904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762120" y="1981080"/>
          <a:ext cx="3352680" cy="2971800"/>
        </p:xfrm>
        <a:graphic>
          <a:graphicData uri="http://schemas.openxmlformats.org/drawingml/2006/table">
            <a:tbl>
              <a:tblPr/>
              <a:tblGrid>
                <a:gridCol w="1117440"/>
                <a:gridCol w="916200"/>
                <a:gridCol w="131904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V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9" name="Picture 129" descr="http://www.ioso.ru/distant/do/curse/logic/image014.gif"/>
          <p:cNvPicPr/>
          <p:nvPr/>
        </p:nvPicPr>
        <p:blipFill>
          <a:blip r:embed="rId1"/>
          <a:stretch/>
        </p:blipFill>
        <p:spPr>
          <a:xfrm>
            <a:off x="5029200" y="1981080"/>
            <a:ext cx="32767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СЛЕДОВАНИЕ (ИМПЛИК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пликаци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 операнд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сылк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ючен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называется логическое выраж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ое ложно только тогда, когда посылка истина, а заключение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=A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и этом говорят, и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плицируе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число делится на 9, то оно делится на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о операц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плик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использовать следующее тождественное выражение: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A → B = ¬A V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2" name=""/>
          <p:cNvGraphicFramePr/>
          <p:nvPr/>
        </p:nvGraphicFramePr>
        <p:xfrm>
          <a:off x="2895480" y="1752480"/>
          <a:ext cx="3078360" cy="2955960"/>
        </p:xfrm>
        <a:graphic>
          <a:graphicData uri="http://schemas.openxmlformats.org/drawingml/2006/table">
            <a:tbl>
              <a:tblPr/>
              <a:tblGrid>
                <a:gridCol w="765360"/>
                <a:gridCol w="798480"/>
                <a:gridCol w="15145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A →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Прямоугольник 2"/>
          <p:cNvSpPr/>
          <p:nvPr/>
        </p:nvSpPr>
        <p:spPr>
          <a:xfrm>
            <a:off x="2819520" y="720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аблица истинност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РАВЕНСТВО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(ЭКВИВАЛЕНЦИЯ, ЭКВИВАЛЕНТ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виваленци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 высказыва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выраж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ое истинно только тогда, когда оба высказывания имеют одинаковые значения истинности, записывается </a:t>
            </a:r>
            <a:r>
              <a:rPr b="1" lang="ru-RU" sz="2800" spc="-1" strike="noStrike">
                <a:solidFill>
                  <a:srgbClr val="00005e"/>
                </a:solidFill>
                <a:latin typeface="Arial"/>
              </a:rPr>
              <a:t>C=A</a:t>
            </a:r>
            <a:r>
              <a:rPr b="1" lang="ru-RU" sz="2800" spc="-1" strike="noStrike">
                <a:solidFill>
                  <a:srgbClr val="00005e"/>
                </a:solidFill>
                <a:latin typeface="Symbol"/>
                <a:ea typeface="Symbol"/>
              </a:rPr>
              <a:t></a:t>
            </a:r>
            <a:r>
              <a:rPr b="1" lang="ru-RU" sz="2800" spc="-1" strike="noStrike">
                <a:solidFill>
                  <a:srgbClr val="00005e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А ~ В; А &lt;=&gt;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ется соединением двух высказываний в одно при помощи оборота речи "... ТОГДА И ТОЛЬКО ТОГДА, КОГДА ...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прямые параллельны тогда и только тогда, когда они не пересекаются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3429000" y="533520"/>
          <a:ext cx="2743200" cy="3047760"/>
        </p:xfrm>
        <a:graphic>
          <a:graphicData uri="http://schemas.openxmlformats.org/drawingml/2006/table">
            <a:tbl>
              <a:tblPr/>
              <a:tblGrid>
                <a:gridCol w="792000"/>
                <a:gridCol w="762120"/>
                <a:gridCol w="118908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A ↔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87" name="Text Box 101"/>
          <p:cNvSpPr/>
          <p:nvPr/>
        </p:nvSpPr>
        <p:spPr>
          <a:xfrm>
            <a:off x="636480" y="3733920"/>
            <a:ext cx="8001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таблица исти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A &lt;=&gt; B = (A </a:t>
            </a:r>
            <a:r>
              <a:rPr b="1" lang="ru-RU" sz="2800" spc="-1" strike="noStrike">
                <a:solidFill>
                  <a:srgbClr val="00007d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B) V (¬A </a:t>
            </a:r>
            <a:r>
              <a:rPr b="1" lang="ru-RU" sz="2800" spc="-1" strike="noStrike">
                <a:solidFill>
                  <a:srgbClr val="00007d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¬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A &lt;=&gt; B = (A V ¬B) </a:t>
            </a:r>
            <a:r>
              <a:rPr b="1" lang="ru-RU" sz="2800" spc="-1" strike="noStrike">
                <a:solidFill>
                  <a:srgbClr val="00007d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(¬A V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FBA5-8396-4385-83D5-241C4A85DC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вносильные формулы алгебры лог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якое сложное высказывание, которое может быть получено из элементарных высказываний путем применения логических операций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рмулой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ают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«Я учусь в ДГТУ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люблю информати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следующее сложное высказы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формулы алгебры логик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вноси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и приним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динаковые логические зна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любом наборе значений входящих в них высказыва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7620120" y="4495680"/>
            <a:ext cx="9903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14280" y="631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ражения             построить таблицу исти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066680" y="3124080"/>
          <a:ext cx="5261040" cy="2286000"/>
        </p:xfrm>
        <a:graphic>
          <a:graphicData uri="http://schemas.openxmlformats.org/drawingml/2006/table">
            <a:tbl>
              <a:tblPr/>
              <a:tblGrid>
                <a:gridCol w="590760"/>
                <a:gridCol w="485640"/>
                <a:gridCol w="1325520"/>
                <a:gridCol w="608040"/>
                <a:gridCol w="2251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)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Rectangle 5"/>
          <p:cNvSpPr/>
          <p:nvPr/>
        </p:nvSpPr>
        <p:spPr>
          <a:xfrm>
            <a:off x="-190440" y="17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Объект 22"/>
              <p:cNvSpPr txBox="1"/>
              <p:nvPr/>
            </p:nvSpPr>
            <p:spPr>
              <a:xfrm>
                <a:off x="5638680" y="3336840"/>
                <a:ext cx="184320" cy="1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Объект 23"/>
              <p:cNvSpPr txBox="1"/>
              <p:nvPr/>
            </p:nvSpPr>
            <p:spPr>
              <a:xfrm>
                <a:off x="3697200" y="3300480"/>
                <a:ext cx="2001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797" name="Рисунок 24" descr=""/>
          <p:cNvPicPr/>
          <p:nvPr/>
        </p:nvPicPr>
        <p:blipFill>
          <a:blip r:embed="rId1"/>
          <a:stretch/>
        </p:blipFill>
        <p:spPr>
          <a:xfrm>
            <a:off x="3124080" y="973080"/>
            <a:ext cx="6842160" cy="37008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24"/>
          <p:cNvSpPr/>
          <p:nvPr/>
        </p:nvSpPr>
        <p:spPr>
          <a:xfrm>
            <a:off x="4098240" y="-1533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Объект 26"/>
              <p:cNvSpPr txBox="1"/>
              <p:nvPr/>
            </p:nvSpPr>
            <p:spPr>
              <a:xfrm>
                <a:off x="0" y="0"/>
                <a:ext cx="20016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00" name="Rectangle 25"/>
          <p:cNvSpPr/>
          <p:nvPr/>
        </p:nvSpPr>
        <p:spPr>
          <a:xfrm>
            <a:off x="4470840" y="7884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ка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наука о правильном мыш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из главных задач логики – определить, как прийти к выводу из предпосыл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Булева алгеб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алгебра логики, алгебра суждений) – раздел математики, в котором изучаются логические операции над высказыв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е понятие булевой алгебры –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выказы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од простым высказыванием понимается предложение, о котором можно сказать,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исти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о или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лож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98D0-4AF5-4F56-A0ED-DBCEF45DBE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вносильные формулы алгебры лог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ейшие равносильности можно разбить на три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равноси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10" descr=""/>
          <p:cNvPicPr/>
          <p:nvPr/>
        </p:nvPicPr>
        <p:blipFill>
          <a:blip r:embed="rId1"/>
          <a:stretch/>
        </p:blipFill>
        <p:spPr>
          <a:xfrm>
            <a:off x="0" y="2514600"/>
            <a:ext cx="883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6D8E-0BDC-416F-97A2-97C9D79FB0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вносильные формулы алгебры лог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380880" y="2212920"/>
            <a:ext cx="541044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DF1F-0ABE-481C-AB5F-899407066F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вносильные формулы алгебры лог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. Равносильности, выражающие одни логические операции через 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8915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13F3-10F0-4289-93AA-F059A98D4D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вносильные формулы алгебры лог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сновные законы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3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спользование булевых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ществует несколько стандартных форм, к которым приводятся логические выражения с помощью эквивалентных преобразований (формулы 1-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из них –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дизъюнктивная нормальная форма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ДНФ), имеет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2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каждое из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ь конъюнкция простых высказываний или их отрицаний, напри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=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)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ая –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конъюнктивная нормальная форма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КНФ), имеет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2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каждое из составляющих есть дизъюнкция  простых высказываний или их отриц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спользование булевых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=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2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3)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4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5)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чное и алгебраическое задание булевских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ь булевскую функцию мож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таблицы истинности, определяя ее значения для всех наборов значений аргументов. Каждый аргумент может иметь два значения 0 и 1, следовательно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ргументов могут принимать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личных набо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, например булевская функция имеет три аргумен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бщее число наборов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8, зададим таблицу истинности функции, указав для каждого набора значе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мбинациях, где функция принимает значение 1, единицу заменим конъюнкцией аргумен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их отрицаний т.е. значени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поставим в соответствие выражени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е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поставим в соответствие выражени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элементы соединим знаками дизъю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ссматриваемого примера, получи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(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=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ую группу дизъюнкций  входя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аргумен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. Такая ДНФ называется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оверше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именуется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ДН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724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kom"/>
          <p:cNvPicPr/>
          <p:nvPr/>
        </p:nvPicPr>
        <p:blipFill>
          <a:blip r:embed="rId1"/>
          <a:stretch/>
        </p:blipFill>
        <p:spPr>
          <a:xfrm>
            <a:off x="2195640" y="1341360"/>
            <a:ext cx="5172120" cy="3371760"/>
          </a:xfrm>
          <a:prstGeom prst="rect">
            <a:avLst/>
          </a:prstGeom>
          <a:ln w="0">
            <a:noFill/>
          </a:ln>
        </p:spPr>
      </p:pic>
      <p:sp>
        <p:nvSpPr>
          <p:cNvPr id="824" name="WordArt 3"/>
          <p:cNvSpPr txBox="1"/>
          <p:nvPr/>
        </p:nvSpPr>
        <p:spPr>
          <a:xfrm>
            <a:off x="2033640" y="476280"/>
            <a:ext cx="50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ccccff"/>
                </a:solidFill>
                <a:latin typeface="Arial"/>
              </a:rPr>
              <a:t>логические  элементы</a:t>
            </a:r>
            <a:endParaRPr b="0" lang="en-US" sz="2000" spc="1" strike="noStrike">
              <a:ln w="0">
                <a:noFill/>
              </a:ln>
              <a:solidFill>
                <a:srgbClr val="ccccff"/>
              </a:solidFill>
              <a:latin typeface="Arial"/>
              <a:ea typeface="Arial"/>
            </a:endParaRPr>
          </a:p>
        </p:txBody>
      </p:sp>
      <p:sp>
        <p:nvSpPr>
          <p:cNvPr id="825" name="WordArt 4"/>
          <p:cNvSpPr txBox="1"/>
          <p:nvPr/>
        </p:nvSpPr>
        <p:spPr>
          <a:xfrm>
            <a:off x="1584360" y="4653000"/>
            <a:ext cx="597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ccccff"/>
                </a:solidFill>
                <a:latin typeface="Arial"/>
              </a:rPr>
              <a:t>персонального  компьютера</a:t>
            </a:r>
            <a:endParaRPr b="0" lang="en-US" sz="2000" spc="1" strike="noStrike">
              <a:ln w="0">
                <a:noFill/>
              </a:ln>
              <a:solidFill>
                <a:srgbClr val="ccccff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лог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мент компьюте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огический элемент компьютер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часть электронной логической схемы, которая реализует элементарную логическую функц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Picture 3" descr="j0289138"/>
          <p:cNvPicPr/>
          <p:nvPr/>
        </p:nvPicPr>
        <p:blipFill>
          <a:blip r:embed="rId1"/>
          <a:stretch/>
        </p:blipFill>
        <p:spPr>
          <a:xfrm>
            <a:off x="1332000" y="333360"/>
            <a:ext cx="1857240" cy="2793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j0289834"/>
          <p:cNvPicPr/>
          <p:nvPr/>
        </p:nvPicPr>
        <p:blipFill>
          <a:blip r:embed="rId1"/>
          <a:stretch/>
        </p:blipFill>
        <p:spPr>
          <a:xfrm>
            <a:off x="1908000" y="333360"/>
            <a:ext cx="2232360" cy="148752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  <p:pic>
        <p:nvPicPr>
          <p:cNvPr id="829" name="Picture 3" descr="j0289053"/>
          <p:cNvPicPr/>
          <p:nvPr/>
        </p:nvPicPr>
        <p:blipFill>
          <a:blip r:embed="rId2"/>
          <a:stretch/>
        </p:blipFill>
        <p:spPr>
          <a:xfrm>
            <a:off x="3851280" y="836640"/>
            <a:ext cx="2054160" cy="134784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pic>
        <p:nvPicPr>
          <p:cNvPr id="830" name="Picture 4" descr="j0289141"/>
          <p:cNvPicPr/>
          <p:nvPr/>
        </p:nvPicPr>
        <p:blipFill>
          <a:blip r:embed="rId3"/>
          <a:stretch/>
        </p:blipFill>
        <p:spPr>
          <a:xfrm>
            <a:off x="5364000" y="1268280"/>
            <a:ext cx="2089440" cy="139248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  <p:sp>
        <p:nvSpPr>
          <p:cNvPr id="831" name="AutoShape 5"/>
          <p:cNvSpPr/>
          <p:nvPr/>
        </p:nvSpPr>
        <p:spPr>
          <a:xfrm>
            <a:off x="2916360" y="3068640"/>
            <a:ext cx="3600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Логически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6"/>
          <p:cNvSpPr/>
          <p:nvPr/>
        </p:nvSpPr>
        <p:spPr>
          <a:xfrm>
            <a:off x="250920" y="4653000"/>
            <a:ext cx="2303280" cy="647640"/>
          </a:xfrm>
          <a:prstGeom prst="flowChartTerminator">
            <a:avLst/>
          </a:pr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Схем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7"/>
          <p:cNvSpPr/>
          <p:nvPr/>
        </p:nvSpPr>
        <p:spPr>
          <a:xfrm>
            <a:off x="3635280" y="5229360"/>
            <a:ext cx="2303640" cy="647640"/>
          </a:xfrm>
          <a:prstGeom prst="flowChartTerminator">
            <a:avLst/>
          </a:pr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Схем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8"/>
          <p:cNvSpPr/>
          <p:nvPr/>
        </p:nvSpPr>
        <p:spPr>
          <a:xfrm>
            <a:off x="6840360" y="4653000"/>
            <a:ext cx="2303640" cy="647640"/>
          </a:xfrm>
          <a:prstGeom prst="flowChartTerminator">
            <a:avLst/>
          </a:pr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Схеме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9"/>
          <p:cNvSpPr/>
          <p:nvPr/>
        </p:nvSpPr>
        <p:spPr>
          <a:xfrm flipH="1">
            <a:off x="1258560" y="3500280"/>
            <a:ext cx="1584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0"/>
          <p:cNvSpPr/>
          <p:nvPr/>
        </p:nvSpPr>
        <p:spPr>
          <a:xfrm>
            <a:off x="6516720" y="3357720"/>
            <a:ext cx="151128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1"/>
          <p:cNvSpPr/>
          <p:nvPr/>
        </p:nvSpPr>
        <p:spPr>
          <a:xfrm>
            <a:off x="4788000" y="4076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я обозначаются латинскими буквами и могут принимать одно из двух значений: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ЛОЖ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означ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 или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ИСТ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означ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одно высказывание не может быть одновременно истинным и лож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Примеры высказы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Москва – столица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Число 27 является прост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Волга впадает в Каспийское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е предложения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высказываниями не явля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авай пойдем гул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2*x&gt;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a*x2+b*x+c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Который ч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Свет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Руки ввер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представить два логических состояния — “1” и “0” в вентилях, соответствующие им входные и выходные сигналы имеют один из двух установленных уровней напря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+5 вольт и 0 воль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" descr="signal"/>
          <p:cNvPicPr/>
          <p:nvPr/>
        </p:nvPicPr>
        <p:blipFill>
          <a:blip r:embed="rId1"/>
          <a:stretch/>
        </p:blipFill>
        <p:spPr>
          <a:xfrm>
            <a:off x="1332000" y="4417920"/>
            <a:ext cx="6769080" cy="134964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  <p:pic>
        <p:nvPicPr>
          <p:cNvPr id="840" name="Picture 4" descr="j0283706"/>
          <p:cNvPicPr/>
          <p:nvPr/>
        </p:nvPicPr>
        <p:blipFill>
          <a:blip r:embed="rId2"/>
          <a:stretch/>
        </p:blipFill>
        <p:spPr>
          <a:xfrm>
            <a:off x="6012000" y="2816280"/>
            <a:ext cx="1584360" cy="12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j0289143"/>
          <p:cNvPicPr/>
          <p:nvPr/>
        </p:nvPicPr>
        <p:blipFill>
          <a:blip r:embed="rId1"/>
          <a:stretch/>
        </p:blipFill>
        <p:spPr>
          <a:xfrm>
            <a:off x="1042920" y="3068640"/>
            <a:ext cx="2649600" cy="176688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3995640" y="1989000"/>
            <a:ext cx="48355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логический элеме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еет свое усло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ение, котор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его логическ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ю, но не указывает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, какая именно электр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в нем реализов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466560" y="692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сокий уровень обычно соответствует значению “истина” (“1”), а низкий — значению “ложь” (“0”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395280" y="537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упрощает запись и понимание сложных логических схе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6" descr="j0289107"/>
          <p:cNvPicPr/>
          <p:nvPr/>
        </p:nvPicPr>
        <p:blipFill>
          <a:blip r:embed="rId2"/>
          <a:stretch/>
        </p:blipFill>
        <p:spPr>
          <a:xfrm>
            <a:off x="539640" y="2133720"/>
            <a:ext cx="2556000" cy="16905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        </a:t>
            </a:r>
            <a:r>
              <a:rPr b="1" lang="ru-RU" sz="4400" spc="-1" strike="noStrike">
                <a:solidFill>
                  <a:srgbClr val="990099"/>
                </a:solidFill>
                <a:latin typeface="Rockwell Extra Bold"/>
              </a:rPr>
              <a:t>Схема 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хема проводит ток, когда оба переключателя замкнуты, следовательно,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3200"/>
            </a:b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Picture 3" descr="0078"/>
          <p:cNvPicPr/>
          <p:nvPr/>
        </p:nvPicPr>
        <p:blipFill>
          <a:blip r:embed="rId1"/>
          <a:stretch/>
        </p:blipFill>
        <p:spPr>
          <a:xfrm>
            <a:off x="2050920" y="4365720"/>
            <a:ext cx="5473800" cy="69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fdef6"/>
                </a:solidFill>
                <a:latin typeface="Rockwell Extra Bold"/>
              </a:rPr>
              <a:t>  </a:t>
            </a:r>
            <a:r>
              <a:rPr b="1" lang="ru-RU" sz="5400" spc="-1" strike="noStrike">
                <a:solidFill>
                  <a:srgbClr val="990099"/>
                </a:solidFill>
                <a:latin typeface="Rockwell Extra Bold"/>
              </a:rPr>
              <a:t>Схема  ИЛИ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проводит ток, когда хотя бы один из переключателей замкнут, следовательно,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F(x)=x v y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0" name="Picture 4" descr="0079"/>
          <p:cNvPicPr/>
          <p:nvPr/>
        </p:nvPicPr>
        <p:blipFill>
          <a:blip r:embed="rId1"/>
          <a:stretch/>
        </p:blipFill>
        <p:spPr>
          <a:xfrm>
            <a:off x="2825640" y="4437000"/>
            <a:ext cx="3492720" cy="15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fdef6"/>
                </a:solidFill>
                <a:latin typeface="Rockwell Extra Bold"/>
              </a:rPr>
              <a:t>  </a:t>
            </a:r>
            <a:r>
              <a:rPr b="1" lang="ru-RU" sz="5400" spc="-1" strike="noStrike">
                <a:solidFill>
                  <a:srgbClr val="990099"/>
                </a:solidFill>
                <a:latin typeface="Rockwell Extra Bold"/>
              </a:rPr>
              <a:t>Схема  НЕ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проводит ток, когда переключатель х разомкнут, и не проводит, когда х замкнут, следовательно,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F(x) = -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3" name="Picture 4" descr="0077"/>
          <p:cNvPicPr/>
          <p:nvPr/>
        </p:nvPicPr>
        <p:blipFill>
          <a:blip r:embed="rId1"/>
          <a:stretch/>
        </p:blipFill>
        <p:spPr>
          <a:xfrm>
            <a:off x="2843280" y="4941720"/>
            <a:ext cx="4013280" cy="7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спользование булевых функций в синтезе цифровых сх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ое устройство ЭВМ можно представить как функциональный преобразователь, выполняющее арифметические действия на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оичными числ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есть сигнал, нет сигнал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Цифровой сигн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игнал, который может принимать только два установленных значения. Физическая природа сигнала может быть самой различной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на выходе схемы напряжения или силы тока определенной велич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ие лампы или зво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атие кноп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батывание электромагнитного реле и другие изменения в электрической цеп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существенно, чтобы имелос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ва резко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отлич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яния физических величин (обозначаемых 0,1), моделирующих истинность или ложность логических высказы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ходными перемен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аргументами) такого преобразователя являются исходные двоичные числа, а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ыходной функци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них - новое двоичное число, которое образовалось в результате выполнения данной оп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как входные переменные, так и выходные функции могут принимать лишь одно из двух возможных значений - 0 (ложь - нет сигнала) и 1 (истина - есть сигна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у двоичной информации осуществляет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арифметико-логическое устрой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являющееся частью процесс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стройство состоит из логически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ретный преобразователь, который после обработки входных двоичных сигналов выдаёт на выходе сигнал, являющийся значением одной из логических операций, называется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логическим элемен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ИЙ ЭЛЕМЕНТ "НЕ" (инвертор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вает на выходе сигнал, противоположный сигналу на входе, т.е. на его выходе будет 1, если на вход поступает 0 и наоборо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хемах инверсия обозначается кружочком на вых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4" descr="pic14_3"/>
          <p:cNvPicPr/>
          <p:nvPr/>
        </p:nvPicPr>
        <p:blipFill>
          <a:blip r:embed="rId1"/>
          <a:stretch/>
        </p:blipFill>
        <p:spPr>
          <a:xfrm>
            <a:off x="3124080" y="4572000"/>
            <a:ext cx="25146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ИЙ ЭЛЕМЕНТ "И" (конъюнктор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им элементом "И" называется такой элемент, который на выходе выдает значение логического произведения входных сигна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ходе элемент "И" дает 1 тогда и только тогда, когда на все входы поданы 1. Условное обозначение логического элемента "И"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4" descr="pic14_1"/>
          <p:cNvPicPr/>
          <p:nvPr/>
        </p:nvPicPr>
        <p:blipFill>
          <a:blip r:embed="rId1"/>
          <a:stretch/>
        </p:blipFill>
        <p:spPr>
          <a:xfrm>
            <a:off x="3429000" y="4343400"/>
            <a:ext cx="25909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е высказывание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огическое выра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построить с помощью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логических операций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иц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ъюнк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зъюнк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плик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вивал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ИЙ ЭЛЕМЕНТ "ИЛИ" (дизъюнкт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им элементом "ИЛИ" называется такой элемент, который на выходе выдает значение логической суммы входных сигна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ходе дизъюнктор дает 1, если хотя бы на один из входов подана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ное обознач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4" descr="pic14_2"/>
          <p:cNvPicPr/>
          <p:nvPr/>
        </p:nvPicPr>
        <p:blipFill>
          <a:blip r:embed="rId1"/>
          <a:stretch/>
        </p:blipFill>
        <p:spPr>
          <a:xfrm>
            <a:off x="3124080" y="4572000"/>
            <a:ext cx="28958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, выработанный одним логическим элементом можно подавать на вход другого логического элемента. Это дает возможность образовывать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цепоч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з отдельных логических эле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4" descr="pic15_1"/>
          <p:cNvPicPr/>
          <p:nvPr/>
        </p:nvPicPr>
        <p:blipFill>
          <a:blip r:embed="rId1"/>
          <a:stretch/>
        </p:blipFill>
        <p:spPr>
          <a:xfrm>
            <a:off x="1143000" y="3505320"/>
            <a:ext cx="3429000" cy="12668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5" descr="pic15_2"/>
          <p:cNvPicPr/>
          <p:nvPr/>
        </p:nvPicPr>
        <p:blipFill>
          <a:blip r:embed="rId2"/>
          <a:stretch/>
        </p:blipFill>
        <p:spPr>
          <a:xfrm>
            <a:off x="4648320" y="4800600"/>
            <a:ext cx="3504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почку из логических элементов будем называть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логическим устройств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хемы, соответствующие таким устройствам, называют функциона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более сложной функциональной сх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4" descr="pic16"/>
          <p:cNvPicPr/>
          <p:nvPr/>
        </p:nvPicPr>
        <p:blipFill>
          <a:blip r:embed="rId1"/>
          <a:stretch/>
        </p:blipFill>
        <p:spPr>
          <a:xfrm>
            <a:off x="1981080" y="4267080"/>
            <a:ext cx="58676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риложение алгебры логики в технике (релейно-контактные схемы - РК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ройств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ейно-контактного действ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 используются в электронно-вычислительной технике. Эти устройства содержат сотн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лупроводников и электромагнитны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ле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электрическое или электронное устройство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предназначенное дл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мыкания или размык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ой цепи при заданных изменениях электрических входных воз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риложение алгебры логики в технике (релейно-контактные схемы - РК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алгебры логики в конструировании РКС возможно в связи с тем, чт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ждой схем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поставить в соответствие некоторую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формулу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ам, включающим основные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логические операции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 же могут быть поставлены в соответств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К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7d"/>
                </a:solidFill>
                <a:uFillTx/>
                <a:latin typeface="Arial"/>
              </a:rPr>
              <a:t>Конъюнкция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х высказываний будет представлена двухполюсной схемой с последовательным соединением двух переключателе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схема пропускает ток тогда и только тогда, если замкнуты (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истин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оба переключа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"/>
          <p:cNvGrpSpPr/>
          <p:nvPr/>
        </p:nvGrpSpPr>
        <p:grpSpPr>
          <a:xfrm>
            <a:off x="3048120" y="4724280"/>
            <a:ext cx="2819160" cy="685440"/>
            <a:chOff x="3048120" y="4724280"/>
            <a:chExt cx="2819160" cy="685440"/>
          </a:xfrm>
        </p:grpSpPr>
        <p:sp>
          <p:nvSpPr>
            <p:cNvPr id="878" name="Line 5"/>
            <p:cNvSpPr/>
            <p:nvPr/>
          </p:nvSpPr>
          <p:spPr>
            <a:xfrm>
              <a:off x="3048120" y="5118840"/>
              <a:ext cx="281916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6"/>
            <p:cNvSpPr/>
            <p:nvPr/>
          </p:nvSpPr>
          <p:spPr>
            <a:xfrm>
              <a:off x="4866120" y="4739040"/>
              <a:ext cx="614880" cy="67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7"/>
            <p:cNvSpPr/>
            <p:nvPr/>
          </p:nvSpPr>
          <p:spPr>
            <a:xfrm>
              <a:off x="3415680" y="4724280"/>
              <a:ext cx="614880" cy="67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7d"/>
                </a:solidFill>
                <a:uFillTx/>
                <a:latin typeface="Arial"/>
              </a:rPr>
              <a:t>Дизъюнкция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ть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хполюсной схемой с параллельным соединением двух переключателе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Эта схема пропускает ток тогда и только тогда, если замкнут (истинен) один или замкнут (истинен) другой переключ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4"/>
          <p:cNvGrpSpPr/>
          <p:nvPr/>
        </p:nvGrpSpPr>
        <p:grpSpPr>
          <a:xfrm>
            <a:off x="3657600" y="4191120"/>
            <a:ext cx="2286000" cy="1752120"/>
            <a:chOff x="3657600" y="4191120"/>
            <a:chExt cx="2286000" cy="1752120"/>
          </a:xfrm>
        </p:grpSpPr>
        <p:sp>
          <p:nvSpPr>
            <p:cNvPr id="883" name="Line 5"/>
            <p:cNvSpPr/>
            <p:nvPr/>
          </p:nvSpPr>
          <p:spPr>
            <a:xfrm>
              <a:off x="4088520" y="4502520"/>
              <a:ext cx="1489680" cy="1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4555800" y="4191120"/>
              <a:ext cx="459720" cy="605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7"/>
            <p:cNvSpPr/>
            <p:nvPr/>
          </p:nvSpPr>
          <p:spPr>
            <a:xfrm flipV="1">
              <a:off x="3657600" y="4915080"/>
              <a:ext cx="428040" cy="34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8"/>
            <p:cNvSpPr/>
            <p:nvPr/>
          </p:nvSpPr>
          <p:spPr>
            <a:xfrm>
              <a:off x="4085640" y="4490640"/>
              <a:ext cx="720" cy="113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9"/>
            <p:cNvSpPr/>
            <p:nvPr/>
          </p:nvSpPr>
          <p:spPr>
            <a:xfrm>
              <a:off x="5597280" y="4490640"/>
              <a:ext cx="720" cy="113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10"/>
            <p:cNvSpPr/>
            <p:nvPr/>
          </p:nvSpPr>
          <p:spPr>
            <a:xfrm>
              <a:off x="4116600" y="5637600"/>
              <a:ext cx="1490040" cy="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11"/>
            <p:cNvSpPr/>
            <p:nvPr/>
          </p:nvSpPr>
          <p:spPr>
            <a:xfrm>
              <a:off x="4584240" y="5337720"/>
              <a:ext cx="459720" cy="605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12"/>
            <p:cNvSpPr/>
            <p:nvPr/>
          </p:nvSpPr>
          <p:spPr>
            <a:xfrm>
              <a:off x="5590440" y="4929480"/>
              <a:ext cx="353160" cy="19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аписать формулу по заданной Р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2203560" y="990720"/>
            <a:ext cx="37152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13"/>
          <p:cNvSpPr/>
          <p:nvPr/>
        </p:nvSpPr>
        <p:spPr>
          <a:xfrm>
            <a:off x="3040200" y="1509840"/>
            <a:ext cx="112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60"/>
          <p:cNvGrpSpPr/>
          <p:nvPr/>
        </p:nvGrpSpPr>
        <p:grpSpPr>
          <a:xfrm>
            <a:off x="533520" y="1201680"/>
            <a:ext cx="3247920" cy="2285640"/>
            <a:chOff x="533520" y="1201680"/>
            <a:chExt cx="3247920" cy="2285640"/>
          </a:xfrm>
        </p:grpSpPr>
        <p:sp>
          <p:nvSpPr>
            <p:cNvPr id="895" name="Line 5"/>
            <p:cNvSpPr/>
            <p:nvPr/>
          </p:nvSpPr>
          <p:spPr>
            <a:xfrm>
              <a:off x="641520" y="290088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6"/>
            <p:cNvSpPr/>
            <p:nvPr/>
          </p:nvSpPr>
          <p:spPr>
            <a:xfrm>
              <a:off x="1825560" y="1209600"/>
              <a:ext cx="120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533520" y="1503000"/>
              <a:ext cx="12906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>
              <a:off x="1824120" y="1201680"/>
              <a:ext cx="0" cy="81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>
              <a:off x="3044880" y="1201680"/>
              <a:ext cx="1440" cy="81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11"/>
            <p:cNvSpPr/>
            <p:nvPr/>
          </p:nvSpPr>
          <p:spPr>
            <a:xfrm>
              <a:off x="1847880" y="2025000"/>
              <a:ext cx="12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12"/>
            <p:cNvSpPr/>
            <p:nvPr/>
          </p:nvSpPr>
          <p:spPr>
            <a:xfrm>
              <a:off x="2225520" y="1809720"/>
              <a:ext cx="37332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14"/>
            <p:cNvSpPr/>
            <p:nvPr/>
          </p:nvSpPr>
          <p:spPr>
            <a:xfrm>
              <a:off x="631800" y="1501560"/>
              <a:ext cx="1440" cy="14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15"/>
            <p:cNvSpPr/>
            <p:nvPr/>
          </p:nvSpPr>
          <p:spPr>
            <a:xfrm>
              <a:off x="1841400" y="2558520"/>
              <a:ext cx="12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6"/>
            <p:cNvSpPr/>
            <p:nvPr/>
          </p:nvSpPr>
          <p:spPr>
            <a:xfrm>
              <a:off x="3243240" y="1302120"/>
              <a:ext cx="41436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17"/>
            <p:cNvSpPr/>
            <p:nvPr/>
          </p:nvSpPr>
          <p:spPr>
            <a:xfrm>
              <a:off x="1839960" y="2548800"/>
              <a:ext cx="0" cy="81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18"/>
            <p:cNvSpPr/>
            <p:nvPr/>
          </p:nvSpPr>
          <p:spPr>
            <a:xfrm>
              <a:off x="3060720" y="2548800"/>
              <a:ext cx="1440" cy="81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9"/>
            <p:cNvSpPr/>
            <p:nvPr/>
          </p:nvSpPr>
          <p:spPr>
            <a:xfrm>
              <a:off x="1863720" y="3372480"/>
              <a:ext cx="12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20"/>
            <p:cNvSpPr/>
            <p:nvPr/>
          </p:nvSpPr>
          <p:spPr>
            <a:xfrm>
              <a:off x="2241720" y="3052800"/>
              <a:ext cx="35712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1"/>
            <p:cNvSpPr/>
            <p:nvPr/>
          </p:nvSpPr>
          <p:spPr>
            <a:xfrm>
              <a:off x="3054240" y="286524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22"/>
            <p:cNvSpPr/>
            <p:nvPr/>
          </p:nvSpPr>
          <p:spPr>
            <a:xfrm>
              <a:off x="2211480" y="2404440"/>
              <a:ext cx="363600" cy="41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23"/>
            <p:cNvSpPr/>
            <p:nvPr/>
          </p:nvSpPr>
          <p:spPr>
            <a:xfrm>
              <a:off x="3765600" y="1491840"/>
              <a:ext cx="1440" cy="13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61"/>
          <p:cNvGrpSpPr/>
          <p:nvPr/>
        </p:nvGrpSpPr>
        <p:grpSpPr>
          <a:xfrm>
            <a:off x="304920" y="3962520"/>
            <a:ext cx="5105160" cy="1923840"/>
            <a:chOff x="304920" y="3962520"/>
            <a:chExt cx="5105160" cy="1923840"/>
          </a:xfrm>
        </p:grpSpPr>
        <p:sp>
          <p:nvSpPr>
            <p:cNvPr id="913" name="Line 25"/>
            <p:cNvSpPr/>
            <p:nvPr/>
          </p:nvSpPr>
          <p:spPr>
            <a:xfrm>
              <a:off x="304920" y="418608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26"/>
            <p:cNvSpPr/>
            <p:nvPr/>
          </p:nvSpPr>
          <p:spPr>
            <a:xfrm>
              <a:off x="1593720" y="4195800"/>
              <a:ext cx="0" cy="10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27"/>
            <p:cNvSpPr/>
            <p:nvPr/>
          </p:nvSpPr>
          <p:spPr>
            <a:xfrm>
              <a:off x="1609560" y="5245200"/>
              <a:ext cx="84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28"/>
            <p:cNvSpPr/>
            <p:nvPr/>
          </p:nvSpPr>
          <p:spPr>
            <a:xfrm>
              <a:off x="2465280" y="4797360"/>
              <a:ext cx="0" cy="8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29"/>
            <p:cNvSpPr/>
            <p:nvPr/>
          </p:nvSpPr>
          <p:spPr>
            <a:xfrm>
              <a:off x="2457360" y="4797360"/>
              <a:ext cx="17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30"/>
            <p:cNvSpPr/>
            <p:nvPr/>
          </p:nvSpPr>
          <p:spPr>
            <a:xfrm>
              <a:off x="2449440" y="5681520"/>
              <a:ext cx="17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31"/>
            <p:cNvSpPr/>
            <p:nvPr/>
          </p:nvSpPr>
          <p:spPr>
            <a:xfrm>
              <a:off x="4178160" y="4186080"/>
              <a:ext cx="0" cy="150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32"/>
            <p:cNvSpPr/>
            <p:nvPr/>
          </p:nvSpPr>
          <p:spPr>
            <a:xfrm>
              <a:off x="746280" y="3983040"/>
              <a:ext cx="39672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33"/>
            <p:cNvSpPr/>
            <p:nvPr/>
          </p:nvSpPr>
          <p:spPr>
            <a:xfrm>
              <a:off x="1825560" y="3971880"/>
              <a:ext cx="41616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34"/>
            <p:cNvSpPr/>
            <p:nvPr/>
          </p:nvSpPr>
          <p:spPr>
            <a:xfrm>
              <a:off x="3240000" y="3962520"/>
              <a:ext cx="493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35"/>
            <p:cNvSpPr/>
            <p:nvPr/>
          </p:nvSpPr>
          <p:spPr>
            <a:xfrm>
              <a:off x="2841480" y="4584600"/>
              <a:ext cx="41616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36"/>
            <p:cNvSpPr/>
            <p:nvPr/>
          </p:nvSpPr>
          <p:spPr>
            <a:xfrm>
              <a:off x="3537000" y="5419800"/>
              <a:ext cx="3967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37"/>
            <p:cNvSpPr/>
            <p:nvPr/>
          </p:nvSpPr>
          <p:spPr>
            <a:xfrm>
              <a:off x="2770200" y="5419800"/>
              <a:ext cx="4158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62"/>
          <p:cNvGrpSpPr/>
          <p:nvPr/>
        </p:nvGrpSpPr>
        <p:grpSpPr>
          <a:xfrm>
            <a:off x="4267080" y="2057400"/>
            <a:ext cx="4648320" cy="1905120"/>
            <a:chOff x="4267080" y="2057400"/>
            <a:chExt cx="4648320" cy="1905120"/>
          </a:xfrm>
        </p:grpSpPr>
        <p:sp>
          <p:nvSpPr>
            <p:cNvPr id="927" name="Line 39"/>
            <p:cNvSpPr/>
            <p:nvPr/>
          </p:nvSpPr>
          <p:spPr>
            <a:xfrm>
              <a:off x="4557600" y="351468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40"/>
            <p:cNvSpPr/>
            <p:nvPr/>
          </p:nvSpPr>
          <p:spPr>
            <a:xfrm>
              <a:off x="6022800" y="2224080"/>
              <a:ext cx="14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41"/>
            <p:cNvSpPr/>
            <p:nvPr/>
          </p:nvSpPr>
          <p:spPr>
            <a:xfrm>
              <a:off x="4267080" y="24638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42"/>
            <p:cNvSpPr/>
            <p:nvPr/>
          </p:nvSpPr>
          <p:spPr>
            <a:xfrm>
              <a:off x="5035680" y="2292480"/>
              <a:ext cx="460080" cy="32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43"/>
            <p:cNvSpPr/>
            <p:nvPr/>
          </p:nvSpPr>
          <p:spPr>
            <a:xfrm>
              <a:off x="6491160" y="2057400"/>
              <a:ext cx="44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44"/>
            <p:cNvSpPr/>
            <p:nvPr/>
          </p:nvSpPr>
          <p:spPr>
            <a:xfrm>
              <a:off x="5495760" y="247176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45"/>
            <p:cNvSpPr/>
            <p:nvPr/>
          </p:nvSpPr>
          <p:spPr>
            <a:xfrm>
              <a:off x="6022800" y="222408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46"/>
            <p:cNvSpPr/>
            <p:nvPr/>
          </p:nvSpPr>
          <p:spPr>
            <a:xfrm>
              <a:off x="7534440" y="222408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47"/>
            <p:cNvSpPr/>
            <p:nvPr/>
          </p:nvSpPr>
          <p:spPr>
            <a:xfrm>
              <a:off x="6051600" y="2846520"/>
              <a:ext cx="14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48"/>
            <p:cNvSpPr/>
            <p:nvPr/>
          </p:nvSpPr>
          <p:spPr>
            <a:xfrm>
              <a:off x="6519960" y="2685960"/>
              <a:ext cx="461880" cy="32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49"/>
            <p:cNvSpPr/>
            <p:nvPr/>
          </p:nvSpPr>
          <p:spPr>
            <a:xfrm>
              <a:off x="7524720" y="245916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50"/>
            <p:cNvSpPr/>
            <p:nvPr/>
          </p:nvSpPr>
          <p:spPr>
            <a:xfrm>
              <a:off x="4548240" y="2459160"/>
              <a:ext cx="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51"/>
            <p:cNvSpPr/>
            <p:nvPr/>
          </p:nvSpPr>
          <p:spPr>
            <a:xfrm>
              <a:off x="6041880" y="3252960"/>
              <a:ext cx="14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52"/>
            <p:cNvSpPr/>
            <p:nvPr/>
          </p:nvSpPr>
          <p:spPr>
            <a:xfrm>
              <a:off x="4933800" y="3373560"/>
              <a:ext cx="4762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53"/>
            <p:cNvSpPr/>
            <p:nvPr/>
          </p:nvSpPr>
          <p:spPr>
            <a:xfrm>
              <a:off x="6041880" y="3252960"/>
              <a:ext cx="0" cy="61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54"/>
            <p:cNvSpPr/>
            <p:nvPr/>
          </p:nvSpPr>
          <p:spPr>
            <a:xfrm>
              <a:off x="7554960" y="3252960"/>
              <a:ext cx="0" cy="61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55"/>
            <p:cNvSpPr/>
            <p:nvPr/>
          </p:nvSpPr>
          <p:spPr>
            <a:xfrm>
              <a:off x="6070680" y="3875040"/>
              <a:ext cx="14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56"/>
            <p:cNvSpPr/>
            <p:nvPr/>
          </p:nvSpPr>
          <p:spPr>
            <a:xfrm>
              <a:off x="6539040" y="3635280"/>
              <a:ext cx="442800" cy="32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57"/>
            <p:cNvSpPr/>
            <p:nvPr/>
          </p:nvSpPr>
          <p:spPr>
            <a:xfrm>
              <a:off x="7545240" y="348768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58"/>
            <p:cNvSpPr/>
            <p:nvPr/>
          </p:nvSpPr>
          <p:spPr>
            <a:xfrm>
              <a:off x="6502320" y="3139920"/>
              <a:ext cx="451080" cy="3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59"/>
            <p:cNvSpPr/>
            <p:nvPr/>
          </p:nvSpPr>
          <p:spPr>
            <a:xfrm>
              <a:off x="8426520" y="245124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строить РКС для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4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534160" cy="3690720"/>
          </a:xfrm>
          <a:prstGeom prst="rect">
            <a:avLst/>
          </a:prstGeom>
          <a:ln w="0">
            <a:noFill/>
          </a:ln>
        </p:spPr>
      </p:pic>
      <p:sp>
        <p:nvSpPr>
          <p:cNvPr id="950" name="Rectangle 5"/>
          <p:cNvSpPr/>
          <p:nvPr/>
        </p:nvSpPr>
        <p:spPr>
          <a:xfrm>
            <a:off x="762120" y="1600200"/>
            <a:ext cx="8001000" cy="3276720"/>
          </a:xfrm>
          <a:prstGeom prst="rect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ы те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ля какого имени истинно высказы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  <a:ea typeface="Calibri"/>
              </a:rPr>
              <a:t>¬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ервая буква имени гласна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→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етвертая буква имени соглас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75000"/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ЛЕНА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) ВАДИМ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) АНТОН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) ФЕ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кого имени истинно высказы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ая буква глас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ая букв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с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следняя буква соглас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АЛИ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2) МАКСИМ    3) СТЕПАН     4) Е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ОТРИЦАНИЕ (ИНВЕР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е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ицания (инверсией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 называют высказыва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Ā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противоположное данному,  которое истинно, тогда ко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ожно и ложно, тогда ко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тинно (чит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версия обознач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Ā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¬А; not A; !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истинности инверсии  определяется по специальной таблице истинности, которая выглядит та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2050920" y="2865600"/>
            <a:ext cx="4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4267080" y="4572000"/>
          <a:ext cx="1524240" cy="1709640"/>
        </p:xfrm>
        <a:graphic>
          <a:graphicData uri="http://schemas.openxmlformats.org/drawingml/2006/table">
            <a:tbl>
              <a:tblPr/>
              <a:tblGrid>
                <a:gridCol w="760680"/>
                <a:gridCol w="763560"/>
              </a:tblGrid>
              <a:tr h="672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¬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1" name="Picture 45" descr="http://www.ioso.ru/distant/do/curse/logic/image008.gif"/>
          <p:cNvPicPr/>
          <p:nvPr/>
        </p:nvPicPr>
        <p:blipFill>
          <a:blip r:embed="rId1"/>
          <a:stretch/>
        </p:blipFill>
        <p:spPr>
          <a:xfrm>
            <a:off x="0" y="0"/>
            <a:ext cx="2286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Oval 2"/>
          <p:cNvSpPr/>
          <p:nvPr/>
        </p:nvSpPr>
        <p:spPr>
          <a:xfrm>
            <a:off x="6372360" y="1844640"/>
            <a:ext cx="43308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3"/>
          <p:cNvSpPr/>
          <p:nvPr/>
        </p:nvSpPr>
        <p:spPr>
          <a:xfrm>
            <a:off x="3203640" y="184464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684360" y="549360"/>
            <a:ext cx="7991280" cy="2303280"/>
          </a:xfrm>
          <a:prstGeom prst="rect">
            <a:avLst/>
          </a:pr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915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ИНВЕРСИЯ</a:t>
            </a:r>
            <a:br>
              <a:rPr sz="4000"/>
            </a:b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отрицание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)</a:t>
            </a:r>
            <a:br>
              <a:rPr sz="4000"/>
            </a:br>
            <a:r>
              <a:rPr b="0" lang="ru-RU" sz="2800" spc="-1" strike="noStrike">
                <a:solidFill>
                  <a:srgbClr val="fa3685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 х  ;  </a:t>
            </a:r>
            <a:r>
              <a:rPr b="0" lang="ru-RU" sz="2800" spc="-1" strike="noStrike">
                <a:solidFill>
                  <a:srgbClr val="fa3685"/>
                </a:solidFill>
                <a:latin typeface="Arial"/>
              </a:rPr>
              <a:t>не верно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что   х</a:t>
            </a:r>
            <a:br>
              <a:rPr sz="40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(x) = - x = </a:t>
            </a:r>
            <a:r>
              <a:rPr b="0" lang="en-US" sz="2800" spc="-1" strike="noStrike">
                <a:solidFill>
                  <a:srgbClr val="00007d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x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22">
            <a:hlinkClick r:id="" action="ppaction://hlinkshowjump?jump=previous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10800"/>
                </a:moveTo>
                <a:lnTo>
                  <a:pt x="24482" y="3794"/>
                </a:lnTo>
                <a:lnTo>
                  <a:pt x="24482" y="17806"/>
                </a:lnTo>
                <a:close/>
              </a:path>
            </a:pathLst>
          </a:custGeom>
          <a:solidFill>
            <a:srgbClr val="b7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6"/>
          <p:cNvGrpSpPr/>
          <p:nvPr/>
        </p:nvGrpSpPr>
        <p:grpSpPr>
          <a:xfrm>
            <a:off x="2819520" y="3200400"/>
            <a:ext cx="3733200" cy="2819160"/>
            <a:chOff x="2819520" y="3200400"/>
            <a:chExt cx="3733200" cy="2819160"/>
          </a:xfrm>
        </p:grpSpPr>
        <p:sp>
          <p:nvSpPr>
            <p:cNvPr id="748" name="Rectangle 24"/>
            <p:cNvSpPr/>
            <p:nvPr/>
          </p:nvSpPr>
          <p:spPr>
            <a:xfrm>
              <a:off x="2819520" y="3200400"/>
              <a:ext cx="3733200" cy="2819160"/>
            </a:xfrm>
            <a:prstGeom prst="rect">
              <a:avLst/>
            </a:prstGeom>
            <a:solidFill>
              <a:srgbClr val="b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Picture 25" descr="0009"/>
            <p:cNvPicPr/>
            <p:nvPr/>
          </p:nvPicPr>
          <p:blipFill>
            <a:blip r:embed="rId1"/>
            <a:stretch/>
          </p:blipFill>
          <p:spPr>
            <a:xfrm>
              <a:off x="3365640" y="3854520"/>
              <a:ext cx="2292480" cy="1262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УМНОЖЕНИЕ (КОН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ъюнкци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гическим умножение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двух высказыван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новое высказы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истинно только тогда, когда истинны оба высказыв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ис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=A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=A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УМНОЖЕНИЕ (КОН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ется соединением двух высказываний в одно с помощью союза "И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из моего окна видна автостоянка, на которой обычно стоят две машины: “Мерседес” и “Жигули”, но может находиться и какая-то одна из них, или не быть ни одной. Обозначим высказы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На автостоянке стоит "Мерседес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На автостоянке стоят "Жигули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конъюнкция В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автостоянке находятся "Мерседес" и "Жигули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ерация конъюнкции обознач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Λ; &amp;; *; and;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Oval 2"/>
          <p:cNvSpPr/>
          <p:nvPr/>
        </p:nvSpPr>
        <p:spPr>
          <a:xfrm>
            <a:off x="4932360" y="1773360"/>
            <a:ext cx="576360" cy="43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3"/>
          <p:cNvSpPr/>
          <p:nvPr/>
        </p:nvSpPr>
        <p:spPr>
          <a:xfrm>
            <a:off x="3780000" y="1773360"/>
            <a:ext cx="576000" cy="433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2251080"/>
          </a:xfrm>
          <a:prstGeom prst="rect">
            <a:avLst/>
          </a:prstGeom>
          <a:noFill/>
          <a:ln w="38160">
            <a:solidFill>
              <a:srgbClr val="00007d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КОНЪЮНКЦИЯ 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логическое умножение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функциональная схема)</a:t>
            </a:r>
            <a:br>
              <a:rPr sz="24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a3685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y 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(x,y) = x</a:t>
            </a:r>
            <a:r>
              <a:rPr b="0" lang="en-US" sz="2800" spc="-1" strike="noStrike">
                <a:solidFill>
                  <a:srgbClr val="00007d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y =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x&amp;y = x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3">
            <a:hlinkClick r:id="" action="ppaction://hlinkshowjump?jump=previousslide"/>
          </p:cNvPr>
          <p:cNvSpPr/>
          <p:nvPr/>
        </p:nvSpPr>
        <p:spPr>
          <a:xfrm>
            <a:off x="8567640" y="6570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b7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37"/>
          <p:cNvGrpSpPr/>
          <p:nvPr/>
        </p:nvGrpSpPr>
        <p:grpSpPr>
          <a:xfrm>
            <a:off x="2286000" y="3436920"/>
            <a:ext cx="4495320" cy="3276360"/>
            <a:chOff x="2286000" y="3436920"/>
            <a:chExt cx="4495320" cy="3276360"/>
          </a:xfrm>
        </p:grpSpPr>
        <p:sp>
          <p:nvSpPr>
            <p:cNvPr id="759" name="Rectangle 35"/>
            <p:cNvSpPr/>
            <p:nvPr/>
          </p:nvSpPr>
          <p:spPr>
            <a:xfrm>
              <a:off x="2286000" y="3436920"/>
              <a:ext cx="4495320" cy="3276360"/>
            </a:xfrm>
            <a:prstGeom prst="rect">
              <a:avLst/>
            </a:prstGeom>
            <a:solidFill>
              <a:srgbClr val="b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36" descr="0006"/>
            <p:cNvPicPr/>
            <p:nvPr/>
          </p:nvPicPr>
          <p:blipFill>
            <a:blip r:embed="rId1"/>
            <a:stretch/>
          </p:blipFill>
          <p:spPr>
            <a:xfrm>
              <a:off x="3356280" y="4068720"/>
              <a:ext cx="2503440" cy="147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User</cp:lastModifiedBy>
  <dcterms:modified xsi:type="dcterms:W3CDTF">2023-09-04T05:47:53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