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DB91B-D80E-4308-92E9-359EDD9D7BA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30F44-7EC6-4EDA-868D-BC993FC14E4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5C203-A40A-4A8A-8E77-3A241593950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60525-E091-4528-AACD-9D5977CC367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E68B7-8DED-4B3C-8D09-85C2CC7EFDF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8DBEF-25D0-4F74-99EE-DDC522D5CE6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A1282-50DE-4512-A05A-EAB9F1B8A62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10B43-AC40-49A0-B7AF-9B9E40BCAFE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32C78-D9F4-472F-A05B-220634AA585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3CC899-59FB-4ED2-87E4-5814B2B4C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B66300-909F-4C81-938F-EB599E1CC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58EBB0-43BB-4BF3-83A6-3A41EE177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45468B-C6A0-4E9B-BF6B-82B1A7469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41A1D-5164-4740-926F-2D491DADA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52A8F-0A9C-4343-BD5E-1ECA07B97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44D89-D8F5-4AEC-B54D-F237FE1D1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F7A52-56C6-4C09-8E73-85FCC6D17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8F224-9ED6-4B90-AA33-EEF9ACADC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D443E-6730-491A-ADB5-BC84F7CE3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FF195-5DC8-40BB-9072-DB9105683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A848A1-76E2-41B8-966E-48087BBE7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7468A-5B32-487D-8F20-A4BD92A0C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5A604-E13E-4A2E-8C53-0A26A2837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83C33-7360-4072-94BC-25DFEF3AA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AD2B0-D29B-4EE9-9EEF-755E5AD86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22244-2DCC-4035-8771-A23CA16DE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014684-70E1-4944-9B74-2FD252928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250C6E-D40D-4C26-BB4C-53127D8F4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CCF81E-4A2E-4353-A78E-378DB4FC9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0E41D2-421E-49F7-9861-0D60FCB32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9A3160-7E0D-417A-9554-532ABE0FC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04737E-64EE-42D2-ACD7-935DC3C90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D7EDE5-70F3-4D81-B507-1D6775C73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7A8B2-62F3-465D-B51F-D3C4E0A6FDA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81CEE-356C-4D76-9B94-18A05BD15E6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Табличный процессор 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MS Exc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Лекция 1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0" y="6021360"/>
            <a:ext cx="295272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ГТУ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афедра МиИ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7667640" y="6445080"/>
            <a:ext cx="1332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015-2016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9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72"/>
                </a:solidFill>
                <a:latin typeface="Arial"/>
              </a:rPr>
              <a:t>Создание таблиц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0" y="928440"/>
            <a:ext cx="88581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вод данных в ячейку и в диапазон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В любой ячейк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el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жет содержаться </a:t>
            </a:r>
            <a:r>
              <a:rPr b="0" i="1" lang="ru-RU" sz="2800" spc="-1" strike="noStrike">
                <a:solidFill>
                  <a:srgbClr val="c00000"/>
                </a:solidFill>
                <a:latin typeface="Arial"/>
              </a:rPr>
              <a:t>текстовая строка</a:t>
            </a: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, </a:t>
            </a:r>
            <a:r>
              <a:rPr b="0" i="1" lang="ru-RU" sz="2800" spc="-1" strike="noStrike">
                <a:solidFill>
                  <a:srgbClr val="c00000"/>
                </a:solidFill>
                <a:latin typeface="Arial"/>
              </a:rPr>
              <a:t>число</a:t>
            </a: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c00000"/>
                </a:solidFill>
                <a:latin typeface="Arial"/>
              </a:rPr>
              <a:t>формула</a:t>
            </a: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ип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данного определяется автоматически при вводе. Если ввод начинается со знака равенства, то процессором это понимается как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ормул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Редактирование содержимого ячейки можно произвести двойным щелчком по ячейк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F7683-D34E-4D19-A566-69278C75D8C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Object 6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72"/>
                </a:solidFill>
                <a:latin typeface="Arial"/>
              </a:rPr>
              <a:t>Форматирование ячеек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142640"/>
            <a:ext cx="8229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атирование в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el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озволяет установит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аты данных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раметры шрифтов и выравнивани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раницы залив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атируемые ячейки или диапазон должны быть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ыделен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затем меню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ФОРМАТ – ЯЧЕЕК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зывает диалоговое окно «Формат ячеек» панел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лавна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имеющее шесть вкладок: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ЧИСЛО, ВЫРАВНИВАНИЕ, ШРИФТ, ГРАНИЦА, ВИД, ЗАЩИТ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где устанавливаются необходимые парамет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18116-C92E-4441-8B8C-6745FB90635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72"/>
                </a:solidFill>
                <a:latin typeface="Arial"/>
              </a:rPr>
              <a:t>Форматирование ячеек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278B2-26CC-4293-B2A5-527451B0CB0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2" descr=""/>
          <p:cNvPicPr/>
          <p:nvPr/>
        </p:nvPicPr>
        <p:blipFill>
          <a:blip r:embed="rId1"/>
          <a:stretch/>
        </p:blipFill>
        <p:spPr>
          <a:xfrm>
            <a:off x="1009800" y="1143000"/>
            <a:ext cx="712440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213840" y="428400"/>
            <a:ext cx="8643960" cy="64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клад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c00000"/>
                </a:solidFill>
                <a:latin typeface="Arial"/>
              </a:rPr>
              <a:t>ЧИСЛ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озволяет установить формат ячейки как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исловой, текстовый, дат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т. 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ни расположены в поле «Числовые форматы» вклад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Числовые данные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могут содержать алфавитных или специальных символов, поскольку с ними производятся математические операции. Единственными исключениями являются десятичная точка(запятая) и знак числа, стоящий перед ни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0448E-3651-4193-808C-022E6BE24E9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Arial"/>
              </a:rPr>
              <a:t>Арифметические операции. Функ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 вычислениях с помощью формул соблюдаетс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нятый в математике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рядок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ыполнения арифметических операц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рифметических формулах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уются следующие операторы арифметических действ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^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возведение в степе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        умно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/        де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+       сло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       вычит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мер формулы: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=А1+ А2*В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^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CFDBD-E64E-4B45-9660-391226CD43D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8229600" cy="104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72"/>
                </a:solidFill>
                <a:latin typeface="Arial"/>
              </a:rPr>
              <a:t>Формулы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0" y="1071360"/>
            <a:ext cx="9144000" cy="44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Ввод формул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вод формулы начинается со знака равенства, сопровождается появлением формулы в ячейке и дублировании набора 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в строке формул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Завершается нажатием клавиши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ter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сле этого в ячейке появляется результат вычисления, а 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саму  формулу теперь можно увидеть в строке формул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, если активизировать ячейку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6116E-D53D-442E-B7E0-31FB1D2BDF8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ведем пример вычисления арифметических и логических формул по следующим данны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3000240" y="1857240"/>
          <a:ext cx="3186360" cy="1482840"/>
        </p:xfrm>
        <a:graphic>
          <a:graphicData uri="http://schemas.openxmlformats.org/drawingml/2006/table">
            <a:tbl>
              <a:tblPr/>
              <a:tblGrid>
                <a:gridCol w="614520"/>
                <a:gridCol w="857160"/>
                <a:gridCol w="928800"/>
                <a:gridCol w="785880"/>
              </a:tblGrid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9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A50D7-0CA4-49A1-9D97-0021F7B6EF6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250920" y="4076640"/>
          <a:ext cx="8643960" cy="1795680"/>
        </p:xfrm>
        <a:graphic>
          <a:graphicData uri="http://schemas.openxmlformats.org/drawingml/2006/table">
            <a:tbl>
              <a:tblPr/>
              <a:tblGrid>
                <a:gridCol w="2143080"/>
                <a:gridCol w="1357200"/>
                <a:gridCol w="514368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ул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ультат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яснение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63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А1+В1*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держимое ячейки В1 умножается на 3, и результат складывается с содержимым ячейки А1.(Умножение выполняется первым)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91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72"/>
                </a:solidFill>
                <a:latin typeface="Arial"/>
              </a:rPr>
              <a:t>Блок ячеек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000080"/>
            <a:ext cx="82296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Блок ячеек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это диапазон ячеек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имеющий свой уникальный адрес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локом может быть: строка или часть строки, столбец или часть столбца, а также прямоугольник, состоящий из нескольких строк и столбцов или их частей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дрес блока ячеек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ется указанием ссылок первой и последней его ячеек, между которыми, например, ставится разделительный символ – двоеточи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:&gt;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ли две точки подряд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..&gt;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ер: адрес блока ячеек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1:C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7D88F-702B-4F16-B98E-C55A2DCDAA9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179280" y="404280"/>
            <a:ext cx="871560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72"/>
                </a:solidFill>
                <a:latin typeface="Arial"/>
              </a:rPr>
              <a:t>Указание блока ячеек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лок используемых ячеек может быть указан двумя путями : либо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непосредственным набором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клавиатуры начального и конечного адресов ячеек, формирующих диапазон, либо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ыделением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ответствующей части таблицы при помощи клавиш управления курсором. Удобнее задавать диапазон выделением яче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26ABD-94B9-4785-A204-E978A96A8C5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179280" y="404280"/>
            <a:ext cx="871560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2"/>
                </a:solidFill>
                <a:latin typeface="Arial"/>
              </a:rPr>
              <a:t>Назначение имени ячейке или диапазону яче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мя может быть присвоено отдельной ячейке или диапазону ячее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создания имени необходимо воспользоваться одним из трех способ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 Способ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Выделить диапазон ячеек, которому должно быть присвоено им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Вкладка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Формул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\􀃆 группа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пределенные имен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􀃆\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исвоить им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В появившемся диалоговом окне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оздание имен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поле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Им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ввести имя (или согласиться 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ложенны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Нажать на кнопку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4A33E-962A-4A36-B942-BB6AB420DFD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4A02D-A386-4425-A2E0-2A621CC43D8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1"/>
          <a:srcRect l="26564" t="33578" r="27941" b="20468"/>
          <a:stretch/>
        </p:blipFill>
        <p:spPr>
          <a:xfrm>
            <a:off x="0" y="1214280"/>
            <a:ext cx="6672240" cy="5054760"/>
          </a:xfrm>
          <a:prstGeom prst="rect">
            <a:avLst/>
          </a:prstGeom>
          <a:ln w="0">
            <a:noFill/>
          </a:ln>
        </p:spPr>
      </p:pic>
      <p:sp>
        <p:nvSpPr>
          <p:cNvPr id="119" name="Прямоугольник 7"/>
          <p:cNvSpPr/>
          <p:nvPr/>
        </p:nvSpPr>
        <p:spPr>
          <a:xfrm>
            <a:off x="7429680" y="4143240"/>
            <a:ext cx="15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рока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Прямая со стрелкой 11"/>
          <p:cNvCxnSpPr/>
          <p:nvPr/>
        </p:nvCxnSpPr>
        <p:spPr>
          <a:xfrm flipH="1" flipV="1">
            <a:off x="5857560" y="4357440"/>
            <a:ext cx="15724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1" name="Прямая со стрелкой 13"/>
          <p:cNvCxnSpPr/>
          <p:nvPr/>
        </p:nvCxnSpPr>
        <p:spPr>
          <a:xfrm flipV="1">
            <a:off x="1784520" y="5715720"/>
            <a:ext cx="216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Прямая со стрелкой 15"/>
          <p:cNvCxnSpPr/>
          <p:nvPr/>
        </p:nvCxnSpPr>
        <p:spPr>
          <a:xfrm flipH="1" flipV="1">
            <a:off x="2928600" y="4928400"/>
            <a:ext cx="42156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Прямая со стрелкой 19"/>
          <p:cNvCxnSpPr/>
          <p:nvPr/>
        </p:nvCxnSpPr>
        <p:spPr>
          <a:xfrm flipH="1" flipV="1">
            <a:off x="5142960" y="5500440"/>
            <a:ext cx="18579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4" name="Прямая со стрелкой 21"/>
          <p:cNvCxnSpPr/>
          <p:nvPr/>
        </p:nvCxnSpPr>
        <p:spPr>
          <a:xfrm flipH="1" flipV="1">
            <a:off x="5357160" y="3428640"/>
            <a:ext cx="17866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5" name="Прямая со стрелкой 23"/>
          <p:cNvCxnSpPr/>
          <p:nvPr/>
        </p:nvCxnSpPr>
        <p:spPr>
          <a:xfrm flipH="1" flipV="1">
            <a:off x="6285960" y="2642400"/>
            <a:ext cx="15721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6" name="Прямая со стрелкой 25"/>
          <p:cNvCxnSpPr/>
          <p:nvPr/>
        </p:nvCxnSpPr>
        <p:spPr>
          <a:xfrm flipH="1" flipV="1">
            <a:off x="6143040" y="1642680"/>
            <a:ext cx="11437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7" name="Прямоугольник 26"/>
          <p:cNvSpPr/>
          <p:nvPr/>
        </p:nvSpPr>
        <p:spPr>
          <a:xfrm>
            <a:off x="6715080" y="4643280"/>
            <a:ext cx="16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Ячейка с адресом С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28"/>
          <p:cNvSpPr/>
          <p:nvPr/>
        </p:nvSpPr>
        <p:spPr>
          <a:xfrm>
            <a:off x="6929280" y="5286240"/>
            <a:ext cx="164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лок ячеек с адресом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…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29"/>
          <p:cNvSpPr/>
          <p:nvPr/>
        </p:nvSpPr>
        <p:spPr>
          <a:xfrm>
            <a:off x="714240" y="6488280"/>
            <a:ext cx="16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олбец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31"/>
          <p:cNvSpPr/>
          <p:nvPr/>
        </p:nvSpPr>
        <p:spPr>
          <a:xfrm>
            <a:off x="7000920" y="3214800"/>
            <a:ext cx="214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рока ввода формулы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32"/>
          <p:cNvSpPr/>
          <p:nvPr/>
        </p:nvSpPr>
        <p:spPr>
          <a:xfrm>
            <a:off x="6929280" y="2357280"/>
            <a:ext cx="200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анель инструментов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угольник 34"/>
          <p:cNvSpPr/>
          <p:nvPr/>
        </p:nvSpPr>
        <p:spPr>
          <a:xfrm>
            <a:off x="6643800" y="1357200"/>
            <a:ext cx="22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манды главного меню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72"/>
                </a:solidFill>
                <a:latin typeface="Arial"/>
              </a:rPr>
              <a:t>Меню интерфейса 20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179280" y="404640"/>
            <a:ext cx="871560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72"/>
                </a:solidFill>
                <a:latin typeface="Arial"/>
              </a:rPr>
              <a:t>Использование заданного имени ячеек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менение им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мена, хранятся в той книге, где о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ыли созданы. Область их действия — вся рабочая книга. Это означает, что им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ступно на всех рабочих листах данной рабочей книг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мена ячеек и диапазонов можно использовать в качестве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ссылок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эти ячей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использова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мени при созда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улы выполните следующие шаг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Выделите ячейку результа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Введите знак равен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Начните ввод формулы (функци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Нажмит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F3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􀃆 в пол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ставка имен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ал. окна выберите им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жмит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C943E-47AE-4A19-8386-B81E540C533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D1480-DF46-405A-80B6-819633878D6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Номер слайда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72675-5C8C-4950-89C0-A88D6D19A2A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3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72"/>
                </a:solidFill>
                <a:latin typeface="Arial"/>
              </a:rPr>
              <a:t>Работа с функциями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0" y="928800"/>
            <a:ext cx="914400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ункции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Функция представляет собой программу с уникальным имен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ьзователь должен задать конкретное значения аргументов функции,  в скобках после ее име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ункции могут имеют один или несколько аргумен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ункцию (так же, как и число) можно считать частным случаем формул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el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озволяет использовать встроенные математические, логические, статистические функц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качестве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ргументов функци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ыступают числовые значения и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адреса ячеек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зывается функция, как правило, с помощью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МАСТЕРА ФУНКЦИ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меню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СТАВК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или кнопки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ƒ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91AC7-4552-428B-A506-50ADDD4569B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72"/>
                </a:solidFill>
                <a:latin typeface="Arial"/>
              </a:rPr>
              <a:t>Работа с функциями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928800"/>
            <a:ext cx="914400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иалоговое окно «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астера Функци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» имеет два шаг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вый шаг: выбирается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ип функции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поле «Категория»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тем сама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ункц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 списке «Функция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едующий шаг уточняет аргумен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4C6EC-1901-4CBA-86A4-26EECCB8E3E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Номер слайда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2F24E-204A-4FB6-9F8D-B71A385E7F5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72"/>
                </a:solidFill>
                <a:latin typeface="Arial"/>
              </a:rPr>
              <a:t>Работа с функциями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928800"/>
            <a:ext cx="914400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е функции имеют следующий формат запис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имя функци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 перечень аргументов в круглых скобках, разделенных символом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меры наиболее часто встречающихся функц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FD99B-106D-415F-A7FF-81BDE1EE0EE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2"/>
                </a:solidFill>
                <a:latin typeface="Arial"/>
              </a:rPr>
              <a:t>Примеры наиболее часто встречающихся функций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Список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суммирует аргументы в Списке. Список может состоять из адресов ячеек и блоков, а также числовых знач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(B5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(A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3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ММ (Список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то же, что 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меры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M(B5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УМ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A3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3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23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D4D75-5B21-4634-ABB8-149D62567D9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2"/>
                </a:solidFill>
                <a:latin typeface="Arial"/>
              </a:rPr>
              <a:t>Примеры наиболее часто встречающихся функций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980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Условие; Истинно; Ложно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логическая функция, проверяющая на истинность заданное логическое услов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условие выполняется, то результатом функции является значение аргумента «Истинно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условие не выполняется, то результатом функции становится значение аргумента «Ложно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ер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(B4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шения не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4/B4)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B4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шения не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4/B4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 если ячейка В4 содержит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то функция возвращает текстовое сообщени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шения не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если же это условие не выполняется (т.е. содержимое ячейки В4 не равно 0), функции присваивается значени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4/B4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A66BB-40B9-4490-AA89-3C3811078D6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13840" y="214200"/>
            <a:ext cx="8929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2060"/>
                </a:solidFill>
                <a:latin typeface="Arial"/>
              </a:rPr>
              <a:t>Относительная и абсолютная адресация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68000" y="1500120"/>
            <a:ext cx="8218440" cy="48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электронной таблице при написании формул используются понятия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носительной и абсолютной ссыл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бсолютная ссылк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это не изменяющийся при копировании и перемещении формулы адрес ячейки, содержащий исходное данное (операнд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указания абсолютной адресации вводится символ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Различают два типа абсолютной ссылки: полная и частичн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D427C-5601-4592-B16C-C2328FBF80C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366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57200" y="1125360"/>
            <a:ext cx="8229600" cy="5399280"/>
          </a:xfrm>
          <a:prstGeom prst="rect">
            <a:avLst/>
          </a:prstGeom>
          <a:ln w="0">
            <a:noFill/>
          </a:ln>
        </p:spPr>
      </p:pic>
      <p:sp>
        <p:nvSpPr>
          <p:cNvPr id="136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49689-465B-4119-AEB6-3324192E0F6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0" y="428400"/>
            <a:ext cx="9144000" cy="64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Полная абсолютная ссылка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казывается, если при копировании или перемещении адрес клетки, содержащий исходное данное, не меняется. Для этого символ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$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в первом случаем ставится перед именем столбца и номером строк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00"/>
                </a:solidFill>
                <a:uFillTx/>
                <a:latin typeface="Arial"/>
              </a:rPr>
              <a:t>Пример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$B$5; $D$12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– полные абсолютные ссылк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Частичная абсолютная ссылка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казывает, если при копировании и перемещении </a:t>
            </a:r>
            <a:r>
              <a:rPr b="1" lang="ru-RU" sz="2200" spc="-1" strike="noStrike" u="sng">
                <a:solidFill>
                  <a:srgbClr val="000072"/>
                </a:solidFill>
                <a:uFillTx/>
                <a:latin typeface="Arial"/>
              </a:rPr>
              <a:t>не меняется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омер строки ил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мя столбца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При этом символ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$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ставится перед номером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троки или перед именем столбц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00"/>
                </a:solidFill>
                <a:uFillTx/>
                <a:latin typeface="Arial"/>
              </a:rPr>
              <a:t>Пример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$5-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частичная абсолютная ссылка, не меняется номер строк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$B5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-частичная абсолютная ссылка, не меняется наименование столбц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Относительная ссылка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– это изменяющийся при копировании и перемещении формулы адрес ячейки. Изменение адреса происходит по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правилу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относительной ориентаци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летки с исходной формулой и клеток с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операндами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F02BF-968F-470D-9479-8C4E390021B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2"/>
                </a:solidFill>
                <a:latin typeface="Arial"/>
              </a:rPr>
              <a:t>Создание Абсолютных ссыло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79280" y="1052280"/>
            <a:ext cx="850752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ля этог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делите ячейку с формулой. В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роке формул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делите ссылку, которую необходимо изменить (например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1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Нажимайт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F4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ка не получите желаемой ссыл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ждое нажати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F4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ключает тип ссылки в следующей последовательнос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$H$12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абсолютный столбец и абсолютная стро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H$12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относительный столбец и абсолютная стро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$H12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абсолютный столбец и относительная стро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H12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относительный столбец и относительная стро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Нажмит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T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MS Excel запишет формулу с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бсолютными ссылк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C8494-1C3A-4647-BA49-6D714AD235C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28760" y="142920"/>
            <a:ext cx="822960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2060"/>
                </a:solidFill>
                <a:latin typeface="Arial"/>
              </a:rPr>
              <a:t>Правило относительной ориентации клетки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499760"/>
            <a:ext cx="8229600" cy="43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ула, где в качестве операндов используются ссылки ячеек, воспринимается системой как шаблон, а адреса ячеек в таком шаблоне – как ориентированные данны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носительно ячейки с формул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29B23-E2B1-4913-8274-01F7B50BED7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1500120" y="3643200"/>
          <a:ext cx="6096240" cy="222588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c9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А1+В4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2+B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c9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c9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223" name="Соединительная линия уступом 9"/>
          <p:cNvCxnSpPr/>
          <p:nvPr/>
        </p:nvCxnSpPr>
        <p:spPr>
          <a:xfrm>
            <a:off x="4429080" y="4214880"/>
            <a:ext cx="1858320" cy="429120"/>
          </a:xfrm>
          <a:prstGeom prst="bentConnector3">
            <a:avLst>
              <a:gd name="adj1" fmla="val 49990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24" name="Прямая соединительная линия 15"/>
          <p:cNvSpPr/>
          <p:nvPr/>
        </p:nvSpPr>
        <p:spPr>
          <a:xfrm>
            <a:off x="5643720" y="5286240"/>
            <a:ext cx="1285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5" name="Прямая со стрелкой 17"/>
          <p:cNvCxnSpPr/>
          <p:nvPr/>
        </p:nvCxnSpPr>
        <p:spPr>
          <a:xfrm flipV="1">
            <a:off x="6928200" y="4645080"/>
            <a:ext cx="2520" cy="643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D8C2E-925E-4256-A648-F77D17D3628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8" name="Объект 4"/>
          <p:cNvGraphicFramePr/>
          <p:nvPr/>
        </p:nvGraphicFramePr>
        <p:xfrm>
          <a:off x="1258920" y="1989000"/>
          <a:ext cx="661356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9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1989000"/>
                    <a:ext cx="661356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457200" y="856800"/>
            <a:ext cx="840096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пируемую формулу назовем </a:t>
            </a:r>
            <a:r>
              <a:rPr b="0" i="1" lang="ru-RU" sz="2400" spc="-1" strike="noStrike">
                <a:solidFill>
                  <a:srgbClr val="006600"/>
                </a:solidFill>
                <a:latin typeface="Arial"/>
              </a:rPr>
              <a:t>формулой-оригиналом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копированную формулу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ru-RU" sz="2400" spc="-1" strike="noStrike">
                <a:solidFill>
                  <a:srgbClr val="c00000"/>
                </a:solidFill>
                <a:latin typeface="Arial"/>
              </a:rPr>
              <a:t>формулой-копией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копировании формул действует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авило относительной ориентации клеток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этому после окончания копирования относительное расположение клеток остается таким же, как в формуле-оригинал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копировании формул происходит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втоматическое изменение относительных ссылок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C5290-3BC0-4010-AF8A-02D19496219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0E6EA-69E8-497B-914D-AEC024ED6FF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357120" y="1071720"/>
          <a:ext cx="2857680" cy="1482480"/>
        </p:xfrm>
        <a:graphic>
          <a:graphicData uri="http://schemas.openxmlformats.org/drawingml/2006/table">
            <a:tbl>
              <a:tblPr/>
              <a:tblGrid>
                <a:gridCol w="317520"/>
                <a:gridCol w="1468440"/>
                <a:gridCol w="536760"/>
                <a:gridCol w="534960"/>
              </a:tblGrid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eb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ff"/>
                    </a:solidFill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eb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eb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ebf5"/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eb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eb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ebf5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С1+В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eb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eb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ebf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4" name=""/>
          <p:cNvGraphicFramePr/>
          <p:nvPr/>
        </p:nvGraphicFramePr>
        <p:xfrm>
          <a:off x="357120" y="2857680"/>
          <a:ext cx="3000600" cy="1482480"/>
        </p:xfrm>
        <a:graphic>
          <a:graphicData uri="http://schemas.openxmlformats.org/drawingml/2006/table">
            <a:tbl>
              <a:tblPr/>
              <a:tblGrid>
                <a:gridCol w="333360"/>
                <a:gridCol w="1541520"/>
                <a:gridCol w="563760"/>
                <a:gridCol w="561960"/>
              </a:tblGrid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eb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ff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eb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eb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ebf5"/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eb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eb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ebf5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eb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eb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ebf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3714840" y="1143000"/>
          <a:ext cx="5072040" cy="1514520"/>
        </p:xfrm>
        <a:graphic>
          <a:graphicData uri="http://schemas.openxmlformats.org/drawingml/2006/table">
            <a:tbl>
              <a:tblPr/>
              <a:tblGrid>
                <a:gridCol w="447480"/>
                <a:gridCol w="1119240"/>
                <a:gridCol w="1192320"/>
                <a:gridCol w="1143000"/>
                <a:gridCol w="649080"/>
                <a:gridCol w="52092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ff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ebf5"/>
                    </a:solidFill>
                  </a:tcPr>
                </a:tc>
              </a:tr>
              <a:tr h="416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С1+В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D1+C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E1+D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ebf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6" name=""/>
          <p:cNvGraphicFramePr/>
          <p:nvPr/>
        </p:nvGraphicFramePr>
        <p:xfrm>
          <a:off x="3714840" y="2928960"/>
          <a:ext cx="5143320" cy="1482840"/>
        </p:xfrm>
        <a:graphic>
          <a:graphicData uri="http://schemas.openxmlformats.org/drawingml/2006/table">
            <a:tbl>
              <a:tblPr/>
              <a:tblGrid>
                <a:gridCol w="401400"/>
                <a:gridCol w="1598760"/>
                <a:gridCol w="1571760"/>
                <a:gridCol w="157140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eb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ff"/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eb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eb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ebf5"/>
                    </a:solidFill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eb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eb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ebf5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eb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$C$1+$B$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eb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$C$1+$B$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ebf5"/>
                    </a:solidFill>
                  </a:tcPr>
                </a:tc>
              </a:tr>
            </a:tbl>
          </a:graphicData>
        </a:graphic>
      </p:graphicFrame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14200" y="285480"/>
            <a:ext cx="32148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2"/>
                </a:solidFill>
                <a:latin typeface="Arial"/>
              </a:rPr>
              <a:t>до копир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Заголовок 1"/>
          <p:cNvSpPr/>
          <p:nvPr/>
        </p:nvSpPr>
        <p:spPr>
          <a:xfrm>
            <a:off x="4214880" y="285840"/>
            <a:ext cx="435780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2"/>
                </a:solidFill>
                <a:latin typeface="Arial"/>
              </a:rPr>
              <a:t>после копировани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Дата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365E4-CBC0-4601-B576-CED6376F76E5}" type="datetime">
              <a:rPr b="0" lang="ru-RU" sz="12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Номер слайда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13F5B-8EAC-46F7-9BBC-9A9C8F30F88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333000"/>
            <a:ext cx="830592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сновные методы оптимизации ввода информ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93240" y="836640"/>
            <a:ext cx="8991720" cy="34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indent="323640">
              <a:lnSpc>
                <a:spcPct val="100000"/>
              </a:lnSpc>
              <a:buClr>
                <a:srgbClr val="9999cc"/>
              </a:buClr>
              <a:buSzPct val="75000"/>
              <a:buFont typeface="Comic Sans MS"/>
              <a:buAutoNum type="romanUcPeriod"/>
              <a:tabLst>
                <a:tab algn="l" pos="134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omic Sans MS"/>
              </a:rPr>
              <a:t>Автозаполнение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– обеспечивает</a:t>
            </a:r>
            <a:r>
              <a:rPr b="1" lang="ru-RU" sz="1800" spc="-1" strike="noStrike">
                <a:solidFill>
                  <a:srgbClr val="9999cc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копирование данных  в соседние ячейк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с использованием механизма ввода </a:t>
            </a:r>
            <a:r>
              <a:rPr b="1" lang="ru-RU" sz="1800" spc="-1" strike="noStrike">
                <a:solidFill>
                  <a:srgbClr val="008000"/>
                </a:solidFill>
                <a:latin typeface="Comic Sans MS"/>
              </a:rPr>
              <a:t>«рядов данных» -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данных, отличающихся друг от друга на фиксированный шаг. Ряды данных могут образовывать числа, даты, период времени, пользовательские списки (названия районов города,  фамилии студентов группы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spcAft>
                <a:spcPts val="561"/>
              </a:spcAft>
              <a:buNone/>
              <a:tabLst>
                <a:tab algn="l" pos="0"/>
                <a:tab algn="l" pos="134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Технология автозаполн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323640">
              <a:lnSpc>
                <a:spcPct val="115000"/>
              </a:lnSpc>
              <a:spcBef>
                <a:spcPts val="451"/>
              </a:spcBef>
              <a:spcAft>
                <a:spcPts val="561"/>
              </a:spcAft>
              <a:buClr>
                <a:srgbClr val="008000"/>
              </a:buClr>
              <a:buSzPct val="75000"/>
              <a:buFont typeface="Comic Sans MS"/>
              <a:buAutoNum type="arabicPeriod"/>
              <a:tabLst>
                <a:tab algn="l" pos="134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8000"/>
                </a:solidFill>
                <a:uFillTx/>
                <a:latin typeface="Comic Sans MS"/>
              </a:rPr>
              <a:t>Протяги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323640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Comic Sans MS"/>
              <a:buAutoNum type="alphaLcParenR"/>
              <a:tabLst>
                <a:tab algn="l" pos="134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ыделить две или более соседних ячее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323640">
              <a:lnSpc>
                <a:spcPct val="115000"/>
              </a:lnSpc>
              <a:spcBef>
                <a:spcPts val="451"/>
              </a:spcBef>
              <a:spcAft>
                <a:spcPts val="561"/>
              </a:spcAft>
              <a:buClr>
                <a:srgbClr val="000000"/>
              </a:buClr>
              <a:buSzPct val="75000"/>
              <a:buFont typeface="Comic Sans MS"/>
              <a:buAutoNum type="alphaLcParenR"/>
              <a:tabLst>
                <a:tab algn="l" pos="134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ереместить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УМ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на маркер заполнения (черный квадрат в правом нижнем углу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323640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Comic Sans MS"/>
              <a:buAutoNum type="alphaLcParenR"/>
              <a:tabLst>
                <a:tab algn="l" pos="134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УМ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примет вид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, протянуть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УМ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о нужному диапазону, удерживая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ПКМ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451"/>
              </a:spcBef>
              <a:spcAft>
                <a:spcPts val="561"/>
              </a:spcAft>
              <a:buNone/>
              <a:tabLst>
                <a:tab algn="l" pos="134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74" descr=""/>
          <p:cNvPicPr/>
          <p:nvPr/>
        </p:nvPicPr>
        <p:blipFill>
          <a:blip r:embed="rId1"/>
          <a:srcRect l="0" t="38471" r="39906" b="33333"/>
          <a:stretch/>
        </p:blipFill>
        <p:spPr>
          <a:xfrm>
            <a:off x="179280" y="4797360"/>
            <a:ext cx="2895840" cy="137160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75" descr=""/>
          <p:cNvPicPr/>
          <p:nvPr/>
        </p:nvPicPr>
        <p:blipFill>
          <a:blip r:embed="rId2"/>
          <a:srcRect l="0" t="37137" r="33183" b="32859"/>
          <a:stretch/>
        </p:blipFill>
        <p:spPr>
          <a:xfrm>
            <a:off x="4665600" y="4797360"/>
            <a:ext cx="36576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08000" y="404640"/>
            <a:ext cx="85788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c3c77"/>
                </a:solidFill>
                <a:latin typeface="Arial"/>
              </a:rPr>
              <a:t>Интеллектуальные надстройки </a:t>
            </a:r>
            <a:r>
              <a:rPr b="0" lang="en-US" sz="3600" spc="-1" strike="noStrike">
                <a:solidFill>
                  <a:srgbClr val="3c3c77"/>
                </a:solidFill>
                <a:latin typeface="Arial"/>
              </a:rPr>
              <a:t>MS Excel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395280" y="98064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00000"/>
                </a:solidFill>
                <a:latin typeface="Arial"/>
              </a:rPr>
              <a:t>Надстрой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это вспомогательная программа, служащая для добавления в Microsoft Office специальных команд или возможнос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ример, надстройка «Анализ данных» предоставляет в распоряжение пользователя набор инструментов дл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ализа данны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полезных при проведении сложного статистического или экономического  анализ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решения экономических задач служат  надстройки  MS Exc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"Поиск решения"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"Анализ данных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"Подбор параметра"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B8034-C561-47F7-8AB6-9FD8B4A52D8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08000" y="404640"/>
            <a:ext cx="85788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c3c77"/>
                </a:solidFill>
                <a:latin typeface="Arial"/>
              </a:rPr>
              <a:t>Интеллектуальные надстройки </a:t>
            </a:r>
            <a:r>
              <a:rPr b="0" lang="en-US" sz="3600" spc="-1" strike="noStrike">
                <a:solidFill>
                  <a:srgbClr val="3c3c77"/>
                </a:solidFill>
                <a:latin typeface="Arial"/>
              </a:rPr>
              <a:t>MS Excel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395280" y="836640"/>
            <a:ext cx="82296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дстройка Microsoft Excel "Поиск решения" Применяется при решении задач оптимизации. Процедура поиска решения позволяет находить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тимальное значение формулы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держащейся в ячейке, которую называют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целево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умолчанию в Excel надстройка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иск решени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ключе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бы активизировать ее в Excel, щелкните значо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нопка Microsoft Office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араметры Excel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а затем выберите категорию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адстройк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поле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правле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ыберите значени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дстройки Excel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нажмите кнопку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йт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поле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Доступные надстройки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становите флажок рядом с пунктом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иск решения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нажмите кнопку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B28C7-C559-43D0-B1BD-31213207600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08000" y="836280"/>
            <a:ext cx="85788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c3c77"/>
                </a:solidFill>
                <a:latin typeface="Arial"/>
              </a:rPr>
              <a:t>Интеллектуальные надстройки </a:t>
            </a:r>
            <a:r>
              <a:rPr b="0" lang="en-US" sz="3200" spc="-1" strike="noStrike">
                <a:solidFill>
                  <a:srgbClr val="3c3c77"/>
                </a:solidFill>
                <a:latin typeface="Arial"/>
              </a:rPr>
              <a:t>MS Excel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39528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ле этого значок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Поиск решени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явится во вкладке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анн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B898A-92FA-48B6-A237-72DD5850DA6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2" descr=""/>
          <p:cNvPicPr/>
          <p:nvPr/>
        </p:nvPicPr>
        <p:blipFill>
          <a:blip r:embed="rId1"/>
          <a:stretch/>
        </p:blipFill>
        <p:spPr>
          <a:xfrm>
            <a:off x="0" y="1844640"/>
            <a:ext cx="914400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CAB39-DBDB-47FB-9820-3BAA12456F8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Arial"/>
              </a:rPr>
              <a:t>Документ </a:t>
            </a:r>
            <a:r>
              <a:rPr b="1" lang="en-US" sz="3600" spc="-1" strike="noStrike">
                <a:solidFill>
                  <a:srgbClr val="00007d"/>
                </a:solidFill>
                <a:latin typeface="Arial"/>
              </a:rPr>
              <a:t>MS </a:t>
            </a:r>
            <a:r>
              <a:rPr b="1" lang="en-US" sz="3800" spc="-1" strike="noStrike">
                <a:solidFill>
                  <a:srgbClr val="00007d"/>
                </a:solidFill>
                <a:latin typeface="Arial"/>
              </a:rPr>
              <a:t>Exc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8424720" cy="50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Документом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xcel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вляется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рабочая книг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это файл с произвольным именем и расширением 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ls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Рабочая книга состоит из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рабочих листов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 количество которых ограничено объемом доступной оперативной памяти, каждый имеет свое имя). Один из рабочих листов является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ктивны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т.е. в настоящий момент с ним работает пользователь. Рабочий лист представляет собой таблицу, в которой может содержаться до 1048576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трок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до 256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толбцо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Строки нумеруются числами, столбцы – латинскими буквам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, B, C, …, Y, Z, AA, AB, AC, …, AZ, BA, …,I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Создание основной диаграмм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05264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иаграмма может размещаться на листе, содержащем исходные данные, либо на отдельном листе. При этом, в случае размещения диаграммы на существующем листе, с ней можно работать как с картинко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72"/>
                </a:solidFill>
                <a:latin typeface="Arial"/>
              </a:rPr>
              <a:t>Порядок построения диаграм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Выделите диапазон ячеек, на основании которого вы будете строить диаграмм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На вкладке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ставка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группе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иаграммы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жмите на нужный вам тип диаграммы (</a:t>
            </a: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Гистограмм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График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Круговая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т.д.) и выберите конкретный вид вашей диаграм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9E70A-71EF-4F4C-99D8-B499F2AB613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57120" y="28548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72"/>
                </a:solidFill>
                <a:latin typeface="Arial"/>
              </a:rPr>
              <a:t>Использование графики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213840" y="928800"/>
            <a:ext cx="8929800" cy="49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явится первоначальный вариант диаграмм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34930-6F6A-4760-A901-09E1444B4B6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5" descr=""/>
          <p:cNvPicPr/>
          <p:nvPr/>
        </p:nvPicPr>
        <p:blipFill>
          <a:blip r:embed="rId1"/>
          <a:stretch/>
        </p:blipFill>
        <p:spPr>
          <a:xfrm>
            <a:off x="-6480" y="1700280"/>
            <a:ext cx="8826480" cy="365760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6" descr=""/>
          <p:cNvPicPr/>
          <p:nvPr/>
        </p:nvPicPr>
        <p:blipFill>
          <a:blip r:embed="rId2"/>
          <a:stretch/>
        </p:blipFill>
        <p:spPr>
          <a:xfrm>
            <a:off x="-6480" y="4076640"/>
            <a:ext cx="882648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72"/>
                </a:solidFill>
                <a:latin typeface="Arial"/>
              </a:rPr>
              <a:t>Создание диаграмм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928800"/>
            <a:ext cx="914400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ле создания диаграммы автоматически появляется группа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бота с таблицами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кладки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нструктор, Макет, Форма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и вкладки содержат инструментальные средства, позволяющие изменять характеристики диаграм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A5AAE-C50E-4E45-BD5F-D4320F4A701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5" descr=""/>
          <p:cNvPicPr/>
          <p:nvPr/>
        </p:nvPicPr>
        <p:blipFill>
          <a:blip r:embed="rId1"/>
          <a:stretch/>
        </p:blipFill>
        <p:spPr>
          <a:xfrm>
            <a:off x="15840" y="3081240"/>
            <a:ext cx="91440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72"/>
                </a:solidFill>
                <a:latin typeface="Arial"/>
              </a:rPr>
              <a:t>Создание диаграмм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0" y="928800"/>
            <a:ext cx="914400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ейдите на вкладку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аке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группе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дписи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звание диаграммы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выберите вариант расположения назва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появившемся объекте (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дпись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звание диаграммы)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ведите название своей диаграмм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6D3D1-5F37-4080-A19E-219BA547549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72"/>
                </a:solidFill>
                <a:latin typeface="Arial"/>
              </a:rPr>
              <a:t>Создание диаграмм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928800"/>
            <a:ext cx="914400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добавления названий осей нажмите на вкладк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кет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нопку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звания осей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выберите варианты названий горизонтальной и вертикальной осей. В появившихся объектах (надпись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звание оси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ведите названия осей своей диаграм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добавления подписей данных нажмите на вкладк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кет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нопку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дписи данных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выберите место расположения подписей данн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форматирования и изменения </a:t>
            </a:r>
            <a:r>
              <a:rPr b="0" lang="ru-RU" sz="2400" spc="-1" strike="noStrike">
                <a:solidFill>
                  <a:srgbClr val="00005e"/>
                </a:solidFill>
                <a:latin typeface="Arial"/>
              </a:rPr>
              <a:t>разметки осей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сетки диаграммы воспользуйтесь кнопкам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етк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групп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 типы диаграмм доступны на вкладк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нструктор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групп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ип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помощью кнопк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зменить тип диаграмм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7FECF-2C94-4543-B523-E1B9FB72157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Отличительные особенности MS EXСEL 20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483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гновенный анализ дан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вая функция экспресс-анализа позволяет в два счета преобразовать данные в диаграмму или таблиц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 можете с легкостью увидеть, как будут выглядеть данные, если к ним применить условное форматирование, спарклайны или диаграммы, а затем выбрать нужный вариант одним щелчком мыш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Номер слайда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B0CDF-97F5-4E20-8E5A-EFDBD0D1057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Отличительные особенности MS EXСEL 20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57200" y="1483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сто выделите блок с данными, после чего в правом нижнем углу выделенной области появится небольшой значок быстрого анализа. Щелкнув по нему, вы увидите несколько кнопок, с помощью которых можно просмотреть различные варианты представления данных в виде наиболее подходящих типов графиков, диаграмм, гистограмм и спарклайн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арклайн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это микрографик в одной ячейке. Строится в два клика (Вставка/Спарклайны/График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Номер слайда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1ADB2-2EB0-4B13-9A53-6008F3EE04C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Отличительные особенности MS EXСEL 20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Номер слайда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9591B-C114-4A02-86B3-F1193C2936D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Объект 4" descr="http://www.compbegin.ru/data/image/excel2013_5.png"/>
          <p:cNvPicPr/>
          <p:nvPr/>
        </p:nvPicPr>
        <p:blipFill>
          <a:blip r:embed="rId1"/>
          <a:stretch/>
        </p:blipFill>
        <p:spPr>
          <a:xfrm>
            <a:off x="457200" y="1484280"/>
            <a:ext cx="82296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EBC8B-92A3-4031-8A33-2692DBDBA3F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2" descr=""/>
          <p:cNvPicPr/>
          <p:nvPr/>
        </p:nvPicPr>
        <p:blipFill>
          <a:blip r:embed="rId1"/>
          <a:stretch/>
        </p:blipFill>
        <p:spPr>
          <a:xfrm>
            <a:off x="250920" y="549360"/>
            <a:ext cx="8713800" cy="59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Отличительные особенности MS EXСEL 20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5720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ля упрощения работы с однотипными данными, в Excel расширили функциональные возможности быстрого заполнения таблиц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 время работы, программа постоянно анализирует вводимую вами информацию и пытается найти определенные закономерности. Если таковые будут найдены, то приложение сразу же предложит автоматически заполнить оставшиеся необходимые ячейки и завершить вв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Номер слайда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CE91D-947A-408A-8D6C-CB6E9EC8EDD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0040" y="49968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72"/>
                </a:solidFill>
                <a:latin typeface="Arial"/>
              </a:rPr>
              <a:t>Ячейки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3572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Ячейк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На пересечении столбцов и строк находятся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ячейк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Каждая ячейка имеет адрес, состоящий из указаний столбца и строки, на пересечении которых она находится, например А1, В5, АВ234. Адреса ячеек используются при обращении к их содержимому. Одна из ячеек является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ктивно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она выделяется черной рамкой, в правом нижнем углу которой находится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маркер заполнени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черный квадратик). Ввод данных производится в активную ячейк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97969-3295-4474-8825-6D57295030F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4" name="Прямая со стрелкой 5"/>
          <p:cNvCxnSpPr/>
          <p:nvPr/>
        </p:nvCxnSpPr>
        <p:spPr>
          <a:xfrm flipH="1" flipV="1">
            <a:off x="785520" y="5643360"/>
            <a:ext cx="3578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5" name="Прямая со стрелкой 7"/>
          <p:cNvCxnSpPr/>
          <p:nvPr/>
        </p:nvCxnSpPr>
        <p:spPr>
          <a:xfrm flipV="1">
            <a:off x="1355760" y="5501880"/>
            <a:ext cx="2160" cy="286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6" name="Прямая со стрелкой 13"/>
          <p:cNvCxnSpPr/>
          <p:nvPr/>
        </p:nvCxnSpPr>
        <p:spPr>
          <a:xfrm>
            <a:off x="1571760" y="5643720"/>
            <a:ext cx="3578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7" name="Прямая со стрелкой 15"/>
          <p:cNvCxnSpPr/>
          <p:nvPr/>
        </p:nvCxnSpPr>
        <p:spPr>
          <a:xfrm>
            <a:off x="2208240" y="5486040"/>
            <a:ext cx="7200" cy="300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Отличительные особенности MS EXСEL 20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дним из главных нововведений в новом офисном пакета стала тесная интеграция с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лачным сервисом </a:t>
            </a: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SkyDrive</a:t>
            </a: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для использования которого требуется учетная запись Microsoft. Не смотря на то что, вы можете по-прежнему сохранять документы на жестком диске компьютера, хранилищу SkyDrive реально отдается приоритет. Так, именно этот сервис изначально является местом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хранения файлов по умолчан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Номер слайда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4DCF7-348C-4938-85E4-303D4907AD9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Отличительные особенности MS EXСEL 20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57200" y="1413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стемные требования Microsoft Excel 2016: оперативная память: 1-2 Гб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b4b4b"/>
                </a:solidFill>
                <a:latin typeface="Arial"/>
                <a:ea typeface="Arial"/>
              </a:rPr>
              <a:t>3-D Maps – геопространственная визуализация доступна теперь и в MS Excel 2016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Эксель 2016 появилась возможность рукописного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вода. Пользоваться ей можно через устройство с сенсорным управлением. Вводить символы можно пальцем или пером, а софт автоматически преобразует их в текст. Если планшет или смартфон отсутствует, вы можете использовать мышку для рукописного ввода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4E55F-B3F5-4370-AA33-77089BCEFC5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457200" y="1980720"/>
            <a:ext cx="8229600" cy="3886200"/>
          </a:xfrm>
          <a:prstGeom prst="rect">
            <a:avLst/>
          </a:prstGeom>
          <a:ln w="0">
            <a:noFill/>
          </a:ln>
        </p:spPr>
      </p:pic>
      <p:sp>
        <p:nvSpPr>
          <p:cNvPr id="295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0CCC8-8C84-4486-9D26-BA89864C4A0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39880" cy="820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85840" y="642960"/>
            <a:ext cx="822960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72"/>
                </a:solidFill>
                <a:latin typeface="Arial"/>
              </a:rPr>
              <a:t>Команды для работы с электронной таблицей как с базой данных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7200" y="2214720"/>
            <a:ext cx="822960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работе с большими таблицами иногда требуется  найти нужную строку (столбец) или произвести сортировку таблицы. Для реализации таких задач в состав табличного процессора входит группа команд для работы с электронной таблицей как с базой данных. Единственным требованием, которому должны удовлетворять обрабатываемые с помощью таких команд таблицы, является однородность всех входящий в нее строк. Типовыми операциями, которые выполняют данные команды, являются поиск определенных строк и сортировка стр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AEF4E-9F07-4A3D-A54D-AEAB85978D5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 txBox="1"/>
          <p:nvPr/>
        </p:nvSpPr>
        <p:spPr>
          <a:xfrm>
            <a:off x="0" y="2204640"/>
            <a:ext cx="9144000" cy="393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поиска определенных строк таблицы пользователь задает критерий поиска. Критерий поиска определяет точное значение определенного поля или полей или указывает некоторый диапазон, в котором эти значения находятся. Для построения сложных критериев, сочетающих в себе требования, предъявляемые к нескольким полям, используются логические операторы «ИЛИ» и «И». Задание сложных критериев ограничивает область поис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C2F09-3C12-43CB-ACEA-CE1F5B3AB1A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Заголовок 1"/>
          <p:cNvSpPr/>
          <p:nvPr/>
        </p:nvSpPr>
        <p:spPr>
          <a:xfrm>
            <a:off x="0" y="642960"/>
            <a:ext cx="9144000" cy="13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72"/>
                </a:solidFill>
                <a:latin typeface="Arial"/>
              </a:rPr>
              <a:t>Команды для работы с электронной таблицей как с базой данных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/>
          </p:nvPr>
        </p:nvSpPr>
        <p:spPr>
          <a:xfrm>
            <a:off x="395280" y="1844280"/>
            <a:ext cx="8229600" cy="35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ртировка строк таблицы производится по значениям выбранного пользователем столбца, независимо от содержащегося в нем вида данных. По заданному порядку сортировки текстовые данные сортируются по алфавиту или в обратном алфавиту порядке, а числовые данные – в порядке убывания или возрастания. При этом пользователь должен указать «блок сортировки», включающий все сортируемые строки, и «последовательность полей сортировки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мимо рассмотренных типовых операций табличный процессор может иметь ряд специальных, например автоматическое подведение итогов по выделенным группам данных и т.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Заголовок 1"/>
          <p:cNvSpPr/>
          <p:nvPr/>
        </p:nvSpPr>
        <p:spPr>
          <a:xfrm>
            <a:off x="0" y="404640"/>
            <a:ext cx="9144000" cy="13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72"/>
                </a:solidFill>
                <a:latin typeface="Arial"/>
              </a:rPr>
              <a:t>Команды для работы с электронной таблицей как с базой данных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5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72"/>
                </a:solidFill>
                <a:latin typeface="Arial"/>
              </a:rPr>
              <a:t>Контекстное меню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4B126-CF11-466F-B33D-2303D518973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текстные меню содержат команды, которые применяются наиболее часто к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ыделенным элементам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ли объекта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держание этих меню зависи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контекста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ращения к ни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ля вызова контекстного меню необходимо подвести указатель мыши (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 к элементу или объекту, с которым вы хотите работать, и выполнить щелчок прав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нопкой мыши (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К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5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72"/>
                </a:solidFill>
                <a:latin typeface="Arial"/>
              </a:rPr>
              <a:t>Контекстное меню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7B034-0368-4A01-9624-7B8E9D1AB78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7" descr=""/>
          <p:cNvPicPr/>
          <p:nvPr/>
        </p:nvPicPr>
        <p:blipFill>
          <a:blip r:embed="rId1"/>
          <a:stretch/>
        </p:blipFill>
        <p:spPr>
          <a:xfrm>
            <a:off x="755640" y="1177920"/>
            <a:ext cx="6659640" cy="54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72"/>
                </a:solidFill>
                <a:latin typeface="Arial"/>
              </a:rPr>
              <a:t>Работа с листами  в </a:t>
            </a:r>
            <a:r>
              <a:rPr b="1" lang="en-US" sz="3800" spc="-1" strike="noStrike">
                <a:solidFill>
                  <a:srgbClr val="000072"/>
                </a:solidFill>
                <a:latin typeface="Arial"/>
              </a:rPr>
              <a:t>Exc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285920"/>
            <a:ext cx="8229600" cy="45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решки отдельных рабочих листов одной рабочей книги расположены в нижней части экрана (именной указатель листов), по умолчанию они называются «Лист1», «Лист2», «Лист3»; щелкая по ним мышью, можно переходить с одного листа на другой. И корешок активного рабочего стола маркируется белым цвето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82A50-EF2A-458E-AC07-1D37AEF4292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457200" y="549360"/>
            <a:ext cx="8229600" cy="57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2"/>
                </a:solidFill>
                <a:latin typeface="Arial"/>
              </a:rPr>
              <a:t>Работа с листами  в </a:t>
            </a:r>
            <a:r>
              <a:rPr b="1" lang="en-US" sz="3600" spc="-1" strike="noStrike">
                <a:solidFill>
                  <a:srgbClr val="000072"/>
                </a:solidFill>
                <a:latin typeface="Arial"/>
              </a:rPr>
              <a:t>Exc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исты можн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бавлять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далять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еименовыв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манды этих операций удобно выбирать из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контекстного меню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менного указателя лист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бочий лист или рабочую книгу можно защитить от изменений паролем , для этого зайти в меню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ЕРВИС – ЗАЩИТА – ЗАЩИТИТЬ ЛИСТ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или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ЗАЩИТИТЬ КНИГУ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54E15-A497-4A37-855F-9E091696589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5T00:08:01Z</dcterms:created>
  <dc:creator>TPLX</dc:creator>
  <dc:description/>
  <dc:language>en-US</dc:language>
  <cp:lastModifiedBy>Наталья</cp:lastModifiedBy>
  <dcterms:modified xsi:type="dcterms:W3CDTF">2020-11-24T12:41:13Z</dcterms:modified>
  <cp:revision>1378</cp:revision>
  <dc:subject/>
  <dc:title>Слайд 1</dc:title>
</cp:coreProperties>
</file>