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7A53-48C3-4AEE-8F3C-8150891E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52F6-1F1E-49B2-9D44-70618E6D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279C-7364-449F-86DC-84EE95E9F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50BF-A6E0-48B4-A808-6DE33D7B1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5010-11A2-4FDE-A46F-F09AC556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1846-5903-49F8-8680-C1960367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8223-B063-452A-9798-9E8240F5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8F98-6D6B-4205-AAD2-38B78F29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CBA2-9B04-4D86-9277-F9F0A6DE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FAE4-8582-4382-9191-39B1C13F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AD68-33DB-49D8-8600-A2AB0437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FB4B-E922-4119-84BD-1D08F9A5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0895-04B3-48F9-8D61-006C557717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87;&#1077;&#1088;&#1072;&#1090;&#1080;&#1074;&#1085;&#1072;&#1103;_&#1087;&#1072;&#1084;&#1103;&#1090;&#1100;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8E95-25C0-4D52-8EA1-F21F0845A1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дирование графической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еопамя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часть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оперативной памя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тведённая для хранения данных, которые используются для формирования изображения на экране мони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ет выделенная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оперативная память для видеокар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акже называемая «Видеопамятью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о, чипы оперативной памяти припаяны прямо к плате видеокарты, в отличие от съёмных модулей системной памя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ая Оперативная Память используется только под нужды различных графических приложений и иг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5A50-F320-4084-8AE8-478B3494AA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достатки векторной граф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кторный принцип описания изображения не позволяет автоматизировать ввод графической информации, как это делает сканер для растровой граф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D258-BA41-422F-B17C-56E43AD167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ветовая мод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 разделения цвета на составляющие компоненты назы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ветовой модель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компьютерной графике применяются 2 основные цветовые модели: RGB и CMY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755640" y="2924280"/>
            <a:ext cx="74883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AA8B-0C47-4904-8E23-F382844931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ветовая модель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G</a:t>
            </a:r>
            <a:r>
              <a:rPr b="0" lang="ru-RU" sz="4000" spc="-1" strike="noStrike">
                <a:solidFill>
                  <a:srgbClr val="3333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3517920"/>
            <a:ext cx="82296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бражение в данной цветовой модели состоит из трёх каналов. При смешении основных цветов (основными цветами считаются красный-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елёный - 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Gree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синий - 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Blu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) — например, синего (B) и красного (R), мы получаем </a:t>
            </a:r>
            <a:r>
              <a:rPr b="0" lang="ru-RU" sz="2400" spc="-1" strike="noStrike" u="sng">
                <a:solidFill>
                  <a:srgbClr val="800080"/>
                </a:solidFill>
                <a:uFillTx/>
                <a:latin typeface="Arial"/>
              </a:rPr>
              <a:t>фиолетов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M magenta), при смешении зеленого (G) и красного (R) —</a:t>
            </a:r>
            <a:r>
              <a:rPr b="0" lang="ru-RU" sz="1800" spc="-1" strike="noStrike" u="sng">
                <a:solidFill>
                  <a:srgbClr val="ff9900"/>
                </a:solidFill>
                <a:uFillTx/>
                <a:latin typeface="Arial"/>
              </a:rPr>
              <a:t>ЖЕЛТ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Y yellow), при смешении зеленого (G) и синего (B) —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циановы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 cyan). При смешении всех трёх цветовых компонентов мы получаем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ел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вет (W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62643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10AF-0936-4594-9590-151A2574F8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ветовая мод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нсивность каждого из трех цветов - это один байт (т. е. число в диапазоне от 0 до 255). Таким образом, цвет удобно записывать тремя бай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есть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ярко-си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цвет может быть определён как (0,0,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25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рас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ак (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25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0,0), 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ярко-фиолетовый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(255,0,255),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ярко-</a:t>
            </a: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ЖЕЛТЫЙ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(255,255,0), бледно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ЛТЫ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(1,1,0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ёрный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(0,0,0), а белый — (255,255,25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964B-A3B1-4465-83FD-349FAC46BC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ветовая модель</a:t>
            </a: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RGB-цветовая модель представленная в виде куб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848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5C24-92CB-46E0-A445-DB1EB022D9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ветовая мод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166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овая модель CMYK соответствует рисованию красками на бумажном листе и используется при работе с отраженным цветом, т. е. для подготовки печатных доку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692360" y="2781360"/>
            <a:ext cx="604836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AAD6-5774-4CE3-A4F0-33D5165DC7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ветовая модел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MY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овыми составляющими этой модели являются цвета: </a:t>
            </a:r>
            <a:r>
              <a:rPr b="0" lang="ru-RU" sz="2800" spc="-1" strike="noStrike" u="sng">
                <a:solidFill>
                  <a:srgbClr val="0099cc"/>
                </a:solidFill>
                <a:uFillTx/>
                <a:latin typeface="Arial"/>
              </a:rPr>
              <a:t>голуб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Cyan), </a:t>
            </a:r>
            <a:r>
              <a:rPr b="0" lang="ru-RU" sz="2800" spc="-1" strike="noStrike" u="sng">
                <a:solidFill>
                  <a:srgbClr val="9933ff"/>
                </a:solidFill>
                <a:uFillTx/>
                <a:latin typeface="Arial"/>
              </a:rPr>
              <a:t>лилов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Magenta), </a:t>
            </a:r>
            <a:r>
              <a:rPr b="0" lang="ru-RU" sz="2800" spc="-1" strike="noStrike" u="sng">
                <a:solidFill>
                  <a:srgbClr val="ffc000"/>
                </a:solidFill>
                <a:uFillTx/>
                <a:latin typeface="Arial"/>
              </a:rPr>
              <a:t>желт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Yellow) 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чер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Black). Черный цвет задается отдель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6C72-3C64-4302-9EE7-3CC142206A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дирование зву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765000"/>
            <a:ext cx="842472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 курса физики известно, что звук - это колебания воздуха. Если преобразовать звук в электрический сигнал (например, с помощью микрофона), мы увидим плавно изменяющееся с течением времени напряжени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компьютерной обработки такой - </a:t>
            </a:r>
            <a:r>
              <a:rPr b="0" lang="ru-RU" sz="2200" spc="-1" strike="noStrike">
                <a:solidFill>
                  <a:srgbClr val="800080"/>
                </a:solidFill>
                <a:latin typeface="Arial"/>
              </a:rPr>
              <a:t>аналоговы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игнал нужно преобразовать в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ледовательность двоичных чисе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упают следующим образом. Измеряют напряжение через равные промежутки времени и записывают полученные значения в память компьютера. Этот процесс называется дискретизацией (или оцифровкой), а устройство, выполняющее его - аналого-цифровым преобразователем (АЦП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1116000" y="4869000"/>
            <a:ext cx="694836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5559-E74A-4029-8F13-AAC8184D28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дирование зв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того чтобы воспроизвести закодированный таким образом звук, нужно выполнить обратное преобразова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ля него служит цифро-аналоговый преобразователь - ЦАП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гладить получившийся ступенчатый сигн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ремя оцифровки сигнал дискретизируется по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реме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о 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уровн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кретизация по времени выполняется следующим образом: весь период времени Т разбивается на малые интервалы времени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очкам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ется, что в течение интервала  уровень сигнала изменяется незначительно и может с некоторым допущением считатьс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оянны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ED9B-363C-4D71-80F4-D54A2DE7EF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дирование зв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чина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1/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  называе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астотой дискретиз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3333ff"/>
                </a:solidFill>
                <a:latin typeface="Arial"/>
              </a:rPr>
              <a:t>Часто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искретизац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отсчетов за секун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а измеряется в герцах. (Гц) – количество измерений в течение с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кретизация 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по уровню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вантова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выполняется так: область измерения сигнала от самого малого знач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 самого большог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ивается 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вных квантов, промежутков величиной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точками 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… , 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квант связывается с его порядковым номером, т.е. целым числом, которое легко может быть представлено в двоичной С.С. Если сигнал после дискретизации по времени попадает в промежу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ему в соответствие ставится ко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7216920" y="3679920"/>
            <a:ext cx="93492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F916-2DDE-40DD-9F08-9E25175D5E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дирование графической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видеопамя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ходится двоичная информация об изображении, выводимом на экран. Почти все создаваемые с помощью компьютера изображения можно разделить на две категории -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строву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кторну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фи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тровые изображ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ставляют собой однослойную сетку точек, называемых пикселями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д пикс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держит информацию и о его цв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цифровка изображения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ри оцифровк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ображение с помощью объектива проецируется на светочувствительную матрицу m строк и n столбцов, называемую растром. Далее оцифровывается яркость каждой точки по каждому цвету последовательно по всем строкам растра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0B3C-7874-435B-BCA1-7151078248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456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дирование зв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дискретизации звукового сиг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74883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DFE9-D35C-4D9B-A0DB-6BC9557C20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дирование зв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уровней подбирается так, чтобы звук не имел высокого уровня шума и «электронного» оттенка звуч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ое качество воспроизведения получается в формате лазерного аудиодиска при следующих параметрах оцифровки: частота дискретизации – 44,1 Кгц и выше, квантование – 16 бит или 24 б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секунда стереозвука при высоком качестве звука занимает пример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76 Кб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ковой памя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том 1 сек звуковой записи телефонных переговоров  займет на диске 8000  бай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A4EB-0590-4BB8-98A7-FFD41FF1D3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дирование зв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3516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9A73-3AE5-40B4-B294-BDCD19EA9B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дирование зв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рмин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дер – программа (или устройство), реализующая определенный алгоритм кодирования данных (например, кодер MP 3), которая в качестве ввода принимает исходную информацию, а в качестве вывода возвращает закодированную информацию в определенном форма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кодер – программа (или устройство), реализующая обратное преобразование закодированного сигнала в декодирован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1E79-8F65-4E9E-8FD9-01B8E2C9FF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обенности растровой граф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ксели подобны зернам фотографии и при значительном увеличении они становятся заметными. Растровая карта представляет собой набор (массив) троек чисел: две координаты пикселя на плоскости и его ц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4007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9E9B-C036-4D15-BB83-741E90D201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тровая граф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ме размера изображения, важной является информация </a:t>
            </a:r>
            <a:r>
              <a:rPr b="0" i="1" lang="ru-RU" sz="2400" spc="-1" strike="noStrike">
                <a:solidFill>
                  <a:srgbClr val="cc0099"/>
                </a:solidFill>
                <a:latin typeface="Arial"/>
              </a:rPr>
              <a:t>о количестве цве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акодированных в фай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для кодирования цвета отвести 8 бит - то такой рисунок может содержать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=256 различных цветов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т 00000000 до 11111111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 бит –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=65 536 различных цветов (так называемый High Color)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отвести 24 бита, то потенциально рисунок может содержать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4=16 777 216 различных цветов и оттенков – что примерно соответствует восприятию цветов глазом человека. В последнем случае кодировка называется 24-bit True Co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6422-DCC9-4409-AB13-D9A1388304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Растров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 различных цветов -- К и количество битов для их кодировки -- N связаны между собой простой формулой: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 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B872-195F-4D64-BCB1-4B86C4870B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стров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меньше размер пикселя, тем больше </a:t>
            </a: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разреш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resolution), то есть, тем более мелкие детали можно закодировать в таком графическом фай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ы растровых изображений выражаются в виде количества пикселей по горизонтали и вертикали, например: 1600×1200. В данном случае это означает, что ширина изображения составляет 1600, а высота — 1200 точек (такое изображение состоит из примерно двух мегапикселе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87B3-5723-4A7C-85AC-72F7D46AC8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екто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м логическим элементом векторной графики является геометрический объек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честве объекта принимаются простые геометрические фигуры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ак называемые примитивы – точка, прямоугольник, окружность, эллипс, линия), составные фигуры или фигуры, построенные из примитивов, цветовые зали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395280" y="4287960"/>
            <a:ext cx="864072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3D93-3BCE-4A48-AA15-E72C51A28B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екто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элемент векторного изображения является объектом, который описывается с помощью языка математических уравнений линий, дуг, окружностей и т. 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ые объекты (ломаные линии, различные геометрические фигуры) представляются в виде совокупности элементарных графических объек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ы векторного изображения, в отличии от растровой графики, могут изменять свои размеры без потери качества (при увеличении растрового изображения увеличивается зернистость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091B-1B4B-4C5E-BBD6-38F8DF0566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стоинства векторной граф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 векторной графики много достоинств. Она экономна в плане дискового пространства, это связано с тем, что сохраняется не само изображение, а только некоторые основные данные, используя которые, программа всякий раз воссоздает изображение заново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ъекты векторной графики легко изменяются и модифицируются, что не оказывает практически никакого влияния на качество изображения. Масштабирование, поворот, искривление сведены к паре-тройке элементарных преобразований над вектор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ром использования векторной графики является графический редактор 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elDraw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все 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дактор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9:12:17Z</dcterms:created>
  <dc:creator>Advanced</dc:creator>
  <dc:description/>
  <dc:language>en-US</dc:language>
  <cp:lastModifiedBy>Наталья</cp:lastModifiedBy>
  <dcterms:modified xsi:type="dcterms:W3CDTF">2018-08-30T10:16:58Z</dcterms:modified>
  <cp:revision>34</cp:revision>
  <dc:subject/>
  <dc:title>Слайд 1</dc:title>
</cp:coreProperties>
</file>