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123E-88F0-4EF7-BDE0-8D6FD117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9DC3-EAF9-4522-861C-39577EE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1E93-873A-45F9-A164-FDCAA56F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18BE-D849-44C8-9AA7-E8DC464D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9EBF-6804-4F20-A7CC-D3AF174C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6D63-B84C-4746-BC6E-3BB19648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87B5-61ED-4EED-9E54-9728EE84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CC2-E113-40D7-B7CB-CB3FC140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C141-8073-47A6-A8EE-5428CA4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C5D-5EDC-4F16-B3E8-BAFCD8F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D95-2E3D-4355-95E8-D0C6F178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215C-284D-4BAA-9E96-06E60D08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ABC3-2E67-4D2A-8235-C7502C5C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423-5379-42DD-8B34-FF20C5F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6E99-DEF3-4754-B82C-CE435CCE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F2A-F441-4C2B-8E0B-591BB4D3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4EB-C814-4128-A2B7-85A50337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B8F2-F295-40DE-8DA9-F2088E15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6FE5-0095-4E1A-AC3B-453BBC09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38A0-09B6-4D34-8429-179BB3B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781C-71F8-4738-A49E-C758B5C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5B13-0661-4535-9A23-BCB92D3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7303-59A0-4FC6-BE97-CC6F475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EEED-00CE-4A71-BEFC-B0F5980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2E8-1349-4642-8AD8-FC26B4CBEB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781-1AFF-476D-BE91-368BA8F69E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SolidWork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икладное П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45640" y="4266720"/>
            <a:ext cx="4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60213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812000" y="6553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8-20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ПО специальн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lectronic Workbenc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систему автоматизированного проектирования (САПР). Используется в теоретической подготовке, при выполнении лабораторных работ и проектировании электронных схем, которые будут применяться в реаль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EB5F-306A-4301-92C9-BDDF845C3C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8A2-3EEE-409F-8BF3-6CA6253AFE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Офисные интегрированные программные сред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множества интегрированных пакетов программ наиболее распространенным является пакет офисных программ и в частности </a:t>
            </a:r>
            <a:r>
              <a:rPr b="0" lang="ru-RU" sz="2000" spc="-1" strike="noStrike">
                <a:solidFill>
                  <a:srgbClr val="0000bc"/>
                </a:solidFill>
                <a:latin typeface="Arial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ый процессо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icrosoft 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таблиц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icrosoft Exc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кет подготовки и демонстрации презентац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icrosoft PowerPo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управления базами данных (СУБД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icrosoft Acce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2D4F-4FF6-45CE-8187-74A5E18608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Офисные интегрированные программные сред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енные приложения тесно интегрированы. Это означает, что все программы, входящие в состав </a:t>
            </a:r>
            <a:r>
              <a:rPr b="0" lang="ru-RU" sz="2400" spc="-1" strike="noStrike">
                <a:solidFill>
                  <a:srgbClr val="0000bc"/>
                </a:solidFill>
                <a:latin typeface="Arial"/>
              </a:rPr>
              <a:t>Microsoft Office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ют удобные возможности обмена д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если необходимо подготовить финансовый отчет по результатам некоторого периода, содержащий иллюстрации, то данные можно импортировать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троить на их основе графики и диаграммы и затем поместить их в текст документа, который создан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Wor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ложения </a:t>
            </a:r>
            <a:r>
              <a:rPr b="0" lang="ru-RU" sz="2400" spc="-1" strike="noStrike">
                <a:solidFill>
                  <a:srgbClr val="0000bc"/>
                </a:solidFill>
                <a:latin typeface="Arial"/>
              </a:rPr>
              <a:t>Microsoft Offi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пускают обмен любыми данными между любыми прило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4685-77FF-4DBD-BD4B-DD12FC93F5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онятие и классификация прикладного 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ое программное 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ПО) составляют программы конечного пользователя. Это самый обширный класс программного обеспечения. Везде, где производится обработка больших объемов разнообразных данных, или требуется быстрый анализ ситуации с принятием управляющего решения, – компьютеры под управлением прикладного программного обеспечения с успехом заменяют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О, классифицируя по назначению, условно можно разделить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ые программы общего назна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ые программы специального назначени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есьма условна потому, что некоторые типы программ (например, программы, обрабатывающие тексты) имеют своих представителей и в классе общего назначения (редакторы и процессоры) и в классе профессиональных программ (издательские сис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ED9D-808B-4873-9D55-5B0605A9BA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Классификация прикладного 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42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2411280" y="765000"/>
            <a:ext cx="33163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П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6"/>
          <p:cNvSpPr/>
          <p:nvPr/>
        </p:nvSpPr>
        <p:spPr>
          <a:xfrm>
            <a:off x="1979640" y="1773360"/>
            <a:ext cx="180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граммы обработчики текста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7"/>
          <p:cNvSpPr/>
          <p:nvPr/>
        </p:nvSpPr>
        <p:spPr>
          <a:xfrm>
            <a:off x="1979640" y="328464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е  таб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8"/>
          <p:cNvSpPr/>
          <p:nvPr/>
        </p:nvSpPr>
        <p:spPr>
          <a:xfrm>
            <a:off x="1927080" y="3705120"/>
            <a:ext cx="1297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1979640" y="6308640"/>
            <a:ext cx="208764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дчи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ы, развлечения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0"/>
          <p:cNvSpPr/>
          <p:nvPr/>
        </p:nvSpPr>
        <p:spPr>
          <a:xfrm>
            <a:off x="4807080" y="1700280"/>
            <a:ext cx="1440" cy="4551120"/>
          </a:xfrm>
          <a:custGeom>
            <a:avLst/>
            <a:gdLst/>
            <a:ahLst/>
            <a:rect l="l" t="t" r="r" b="b"/>
            <a:pathLst>
              <a:path w="1" h="6028">
                <a:moveTo>
                  <a:pt x="1" y="0"/>
                </a:moveTo>
                <a:lnTo>
                  <a:pt x="0" y="60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1"/>
          <p:cNvSpPr/>
          <p:nvPr/>
        </p:nvSpPr>
        <p:spPr>
          <a:xfrm>
            <a:off x="1839960" y="21304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2"/>
          <p:cNvSpPr/>
          <p:nvPr/>
        </p:nvSpPr>
        <p:spPr>
          <a:xfrm>
            <a:off x="1828800" y="344016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3"/>
          <p:cNvSpPr/>
          <p:nvPr/>
        </p:nvSpPr>
        <p:spPr>
          <a:xfrm>
            <a:off x="1824120" y="381960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4"/>
          <p:cNvSpPr/>
          <p:nvPr/>
        </p:nvSpPr>
        <p:spPr>
          <a:xfrm>
            <a:off x="1828800" y="67658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5"/>
          <p:cNvSpPr/>
          <p:nvPr/>
        </p:nvSpPr>
        <p:spPr>
          <a:xfrm>
            <a:off x="1946160" y="4065480"/>
            <a:ext cx="12970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е систем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6"/>
          <p:cNvSpPr/>
          <p:nvPr/>
        </p:nvSpPr>
        <p:spPr>
          <a:xfrm>
            <a:off x="1833480" y="429408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7"/>
          <p:cNvSpPr/>
          <p:nvPr/>
        </p:nvSpPr>
        <p:spPr>
          <a:xfrm>
            <a:off x="1979640" y="5734080"/>
            <a:ext cx="151128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системы (офис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8"/>
          <p:cNvSpPr/>
          <p:nvPr/>
        </p:nvSpPr>
        <p:spPr>
          <a:xfrm>
            <a:off x="1828800" y="60008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9"/>
          <p:cNvSpPr/>
          <p:nvPr/>
        </p:nvSpPr>
        <p:spPr>
          <a:xfrm flipH="1">
            <a:off x="2517840" y="1106640"/>
            <a:ext cx="137304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0"/>
          <p:cNvSpPr/>
          <p:nvPr/>
        </p:nvSpPr>
        <p:spPr>
          <a:xfrm>
            <a:off x="4398840" y="1106640"/>
            <a:ext cx="1371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1"/>
          <p:cNvSpPr/>
          <p:nvPr/>
        </p:nvSpPr>
        <p:spPr>
          <a:xfrm>
            <a:off x="1835280" y="1557360"/>
            <a:ext cx="6120" cy="5086440"/>
          </a:xfrm>
          <a:custGeom>
            <a:avLst/>
            <a:gdLst/>
            <a:ahLst/>
            <a:rect l="l" t="t" r="r" b="b"/>
            <a:pathLst>
              <a:path w="10" h="8046">
                <a:moveTo>
                  <a:pt x="10" y="0"/>
                </a:moveTo>
                <a:lnTo>
                  <a:pt x="0" y="80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2195640" y="2421000"/>
            <a:ext cx="1800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е редакто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3"/>
          <p:cNvSpPr/>
          <p:nvPr/>
        </p:nvSpPr>
        <p:spPr>
          <a:xfrm>
            <a:off x="2098800" y="270036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4"/>
          <p:cNvSpPr/>
          <p:nvPr/>
        </p:nvSpPr>
        <p:spPr>
          <a:xfrm>
            <a:off x="2097000" y="2359080"/>
            <a:ext cx="1800" cy="714240"/>
          </a:xfrm>
          <a:custGeom>
            <a:avLst/>
            <a:gdLst/>
            <a:ahLst/>
            <a:rect l="l" t="t" r="r" b="b"/>
            <a:pathLst>
              <a:path w="2" h="1131">
                <a:moveTo>
                  <a:pt x="2" y="0"/>
                </a:moveTo>
                <a:lnTo>
                  <a:pt x="0" y="11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5"/>
          <p:cNvSpPr/>
          <p:nvPr/>
        </p:nvSpPr>
        <p:spPr>
          <a:xfrm>
            <a:off x="2195640" y="285264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е процессо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6"/>
          <p:cNvSpPr/>
          <p:nvPr/>
        </p:nvSpPr>
        <p:spPr>
          <a:xfrm>
            <a:off x="2095560" y="30700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7"/>
          <p:cNvSpPr/>
          <p:nvPr/>
        </p:nvSpPr>
        <p:spPr>
          <a:xfrm>
            <a:off x="2066760" y="4521240"/>
            <a:ext cx="3240" cy="923760"/>
          </a:xfrm>
          <a:custGeom>
            <a:avLst/>
            <a:gdLst/>
            <a:ahLst/>
            <a:rect l="l" t="t" r="r" b="b"/>
            <a:pathLst>
              <a:path w="6" h="1461">
                <a:moveTo>
                  <a:pt x="6" y="0"/>
                </a:moveTo>
                <a:lnTo>
                  <a:pt x="0" y="14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8"/>
          <p:cNvSpPr/>
          <p:nvPr/>
        </p:nvSpPr>
        <p:spPr>
          <a:xfrm>
            <a:off x="2195640" y="4653000"/>
            <a:ext cx="151272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торы векторной графи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9"/>
          <p:cNvSpPr/>
          <p:nvPr/>
        </p:nvSpPr>
        <p:spPr>
          <a:xfrm>
            <a:off x="2070000" y="486252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0"/>
          <p:cNvSpPr/>
          <p:nvPr/>
        </p:nvSpPr>
        <p:spPr>
          <a:xfrm>
            <a:off x="2195640" y="5229360"/>
            <a:ext cx="15127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торы растровой  графи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1"/>
          <p:cNvSpPr/>
          <p:nvPr/>
        </p:nvSpPr>
        <p:spPr>
          <a:xfrm>
            <a:off x="2070000" y="543564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2"/>
          <p:cNvSpPr/>
          <p:nvPr/>
        </p:nvSpPr>
        <p:spPr>
          <a:xfrm>
            <a:off x="4927680" y="1874880"/>
            <a:ext cx="20206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граммы обработчики текста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3"/>
          <p:cNvSpPr/>
          <p:nvPr/>
        </p:nvSpPr>
        <p:spPr>
          <a:xfrm>
            <a:off x="4815000" y="21016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4"/>
          <p:cNvSpPr/>
          <p:nvPr/>
        </p:nvSpPr>
        <p:spPr>
          <a:xfrm>
            <a:off x="5219640" y="2421000"/>
            <a:ext cx="1871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ие систем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5"/>
          <p:cNvSpPr/>
          <p:nvPr/>
        </p:nvSpPr>
        <p:spPr>
          <a:xfrm>
            <a:off x="5076720" y="263700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6"/>
          <p:cNvSpPr/>
          <p:nvPr/>
        </p:nvSpPr>
        <p:spPr>
          <a:xfrm>
            <a:off x="5065560" y="2330280"/>
            <a:ext cx="1800" cy="714600"/>
          </a:xfrm>
          <a:custGeom>
            <a:avLst/>
            <a:gdLst/>
            <a:ahLst/>
            <a:rect l="l" t="t" r="r" b="b"/>
            <a:pathLst>
              <a:path w="2" h="1131">
                <a:moveTo>
                  <a:pt x="2" y="0"/>
                </a:moveTo>
                <a:lnTo>
                  <a:pt x="0" y="11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7"/>
          <p:cNvSpPr/>
          <p:nvPr/>
        </p:nvSpPr>
        <p:spPr>
          <a:xfrm>
            <a:off x="5172120" y="2852640"/>
            <a:ext cx="18478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текстовые редакто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8"/>
          <p:cNvSpPr/>
          <p:nvPr/>
        </p:nvSpPr>
        <p:spPr>
          <a:xfrm>
            <a:off x="5062680" y="304164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9"/>
          <p:cNvSpPr/>
          <p:nvPr/>
        </p:nvSpPr>
        <p:spPr>
          <a:xfrm>
            <a:off x="4932360" y="3429000"/>
            <a:ext cx="201600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Д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0"/>
          <p:cNvSpPr/>
          <p:nvPr/>
        </p:nvSpPr>
        <p:spPr>
          <a:xfrm>
            <a:off x="4803840" y="371628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1"/>
          <p:cNvSpPr/>
          <p:nvPr/>
        </p:nvSpPr>
        <p:spPr>
          <a:xfrm>
            <a:off x="4908600" y="4084560"/>
            <a:ext cx="211140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пакеты специализированные (математические, офисные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2"/>
          <p:cNvSpPr/>
          <p:nvPr/>
        </p:nvSpPr>
        <p:spPr>
          <a:xfrm>
            <a:off x="4803840" y="4462560"/>
            <a:ext cx="11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3"/>
          <p:cNvSpPr/>
          <p:nvPr/>
        </p:nvSpPr>
        <p:spPr>
          <a:xfrm>
            <a:off x="4917960" y="5951520"/>
            <a:ext cx="129564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АПР, АРМ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СНИИ и др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4"/>
          <p:cNvSpPr/>
          <p:nvPr/>
        </p:nvSpPr>
        <p:spPr>
          <a:xfrm>
            <a:off x="4805280" y="624528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5"/>
          <p:cNvSpPr/>
          <p:nvPr/>
        </p:nvSpPr>
        <p:spPr>
          <a:xfrm>
            <a:off x="1547640" y="1268280"/>
            <a:ext cx="234000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О общего назнач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6"/>
          <p:cNvSpPr/>
          <p:nvPr/>
        </p:nvSpPr>
        <p:spPr>
          <a:xfrm>
            <a:off x="4572000" y="1268280"/>
            <a:ext cx="2340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О специального назнач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7"/>
          <p:cNvSpPr/>
          <p:nvPr/>
        </p:nvSpPr>
        <p:spPr>
          <a:xfrm>
            <a:off x="4932360" y="5157720"/>
            <a:ext cx="172728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информацион-ные системы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8"/>
          <p:cNvSpPr/>
          <p:nvPr/>
        </p:nvSpPr>
        <p:spPr>
          <a:xfrm>
            <a:off x="4815000" y="54370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9"/>
          <p:cNvSpPr/>
          <p:nvPr/>
        </p:nvSpPr>
        <p:spPr>
          <a:xfrm flipV="1">
            <a:off x="1835280" y="652464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D78A-C3C2-4F34-BE93-6039242C69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общего на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ы, обрабатывающие текс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 </a:t>
            </a:r>
            <a:r>
              <a:rPr b="0" i="1" lang="ru-RU" sz="2400" spc="-1" strike="noStrike">
                <a:solidFill>
                  <a:srgbClr val="0000bc"/>
                </a:solidFill>
                <a:latin typeface="Arial"/>
              </a:rPr>
              <a:t>текстовые редакторы, текстовые процесс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Граница между ними весьма условна. Текстовые редакторы (Блокнот 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пособны выполнять основные функции редактирования: набор, внесение исправлений, сохранение, работа с фрагмен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е процессоры (Word 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роме того, имеют возможности разнообразного оформления, а некоторые позволяют создавать документы, предназначенные для просмотра не в бумажном виде, а на компьютер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лектронные 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7677-AAB1-4457-9062-E82EE2267A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уровне специального ППО, программы, обрабатывающие тексты, представлены специализированными текстовыми редакторами (например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2600" spc="-1" strike="noStrike">
                <a:solidFill>
                  <a:srgbClr val="0000bc"/>
                </a:solidFill>
                <a:latin typeface="Arial"/>
              </a:rPr>
              <a:t>издательскими систе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е автоматизируют процесс верстки полиграфических изданий, например</a:t>
            </a:r>
            <a:r>
              <a:rPr b="0" lang="ru-RU" sz="2600" spc="-1" strike="noStrike">
                <a:solidFill>
                  <a:srgbClr val="0000bc"/>
                </a:solidFill>
                <a:latin typeface="Arial"/>
              </a:rPr>
              <a:t> Adobe PageMak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Электронные таблицы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сновное назначение электронных таблиц – обработка различных типов данных, представляющихся в табличной форме, например, планово-финансовые, бухгалтерские документы, небольшие инженерные расчеты (Excel разработк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8D42-EBCC-46A6-B68B-1A49BE6C98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ы управления базами данных (СУБД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ы этого класса (Access 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зволяют пользователям работать с большими объемами структурированных данных - базами данных (как правило, это табличные структуры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овне ППО общего назначения - это настольные СУБД, на уровне специальном - это большие СУБД, составляющие основу информационных систем, позволяющие работать в компьютерных с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рафические системы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ограммы, предназначенные для работы с графическими изображениями. К ним относятся редакторы растровой и векторной графики, программы обработки трехмерной графики (</a:t>
            </a:r>
            <a:r>
              <a:rPr b="0" lang="ru-RU" sz="2600" spc="-1" strike="noStrike">
                <a:solidFill>
                  <a:srgbClr val="0000bc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bc"/>
                </a:solidFill>
                <a:latin typeface="Arial"/>
              </a:rPr>
              <a:t>D</a:t>
            </a:r>
            <a:r>
              <a:rPr b="0" lang="ru-RU" sz="2600" spc="-1" strike="noStrike">
                <a:solidFill>
                  <a:srgbClr val="0000bc"/>
                </a:solidFill>
                <a:latin typeface="Arial"/>
              </a:rPr>
              <a:t>- редакт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4CB-F5DB-4127-A514-F816E55903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тегрированные программные средств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2600" spc="-1" strike="noStrike">
                <a:solidFill>
                  <a:srgbClr val="0000bc"/>
                </a:solidFill>
                <a:latin typeface="Arial"/>
              </a:rPr>
              <a:t>интегрированными ПС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дем понимать набор нескольких программных продуктов, функционально дополняющих друг друг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поддерживающих единые информационные технолог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ее распространенный продукт в этого класса – паке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разработк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который кроме текстового процессор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Word, табличного процессор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Excel и СУБ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Acces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нтегрирует в себе таки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фисные программные средства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ак система разработки презентаци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Power Poin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E928-55FD-4A19-8AF8-80A03166FB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специального на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ПО специального назначе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ает более узкие задачи, а также задачи профессионального характера в различных предметных областях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ИС), предоставляющие широкие возможности 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правлении предприят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клад, документооборо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фи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ухгалтерском уче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системы, имеющие функции текстовых, табличных редакторов и СУБД. Предназначены для автоматизации подготовки начальных бухгалтерских документов предприятия и их учета, регулярных отчетов по итогам производственной, хозяйственной и финансовой деятельности в форме, приемлемой для налоговых органов и органов статистического уче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нализе экономической и финансовой деятельнос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используют в банковских и биржевых структур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90B3-4596-429D-B9BB-18588C6438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специального на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ы автоматизированного проектирования </a:t>
            </a: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(САПР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назначены для </a:t>
            </a:r>
            <a:r>
              <a:rPr b="0" i="1" lang="ru-RU" sz="2800" spc="-1" strike="noStrike">
                <a:solidFill>
                  <a:srgbClr val="0000bc"/>
                </a:solidFill>
                <a:latin typeface="Arial"/>
              </a:rPr>
              <a:t>автоматизации процессов производства и констру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меняются в машиностроении, строительстве, архитек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зволяют создавать чертежную документацию, адаптированную в конкретной предметной области, а также имеют справочники, средства проведения рас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olidWork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универсальная САПР для машиностро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1-20T13:04:47Z</dcterms:modified>
  <cp:revision>1281</cp:revision>
  <dc:subject/>
  <dc:title>Слайд 1</dc:title>
</cp:coreProperties>
</file>